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A1B-8AAC-4833-8DC9-B6A3E572C1F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1463-79D8-429A-8ACE-7C5F74B9FEA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F348-6774-43AA-8145-7F75F869ADF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BB2C-A652-4AA0-992E-46362FBFBC91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F45-343C-41EB-B515-FBDE52C1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C0F-3D86-4257-BD19-467040B1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F539-0A99-4E40-A77F-A3F90D89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E25-607D-4EE3-8B4E-4F436666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597-13B9-44DD-9B82-F60DA44A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3EE5-39AB-4FE5-B493-FF49E9D0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9E5-869D-4B0E-AC4E-1469871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220-2AB5-42D0-AE6D-95A310D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D815-913E-4A9C-969F-1975244D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3277-8D28-4547-BE75-ACE4E7F4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547-EE38-43A8-9864-134071C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A57-1781-4B95-BC52-80E3D0DE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8D1D-60E2-40E1-8D93-645779B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F149-0E28-4040-ABA0-DF2B1F5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7FF6-B7BA-412A-9705-317B1EE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C08-FC41-4E73-8E26-B12B03E1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E98A-91E7-4D6E-B624-CB24CE19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A00-AE81-41C2-B2FF-DD72DA80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8CC-9F90-4CA8-80D0-D138503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740-B71A-4202-A69F-BF70406C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EDA1-3472-448F-A8EF-C65F72D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DF8-FA7A-4971-9AA0-000161A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2A0C-D535-4F1B-AF26-87FA19C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194-521D-4CC9-88F8-A749E4C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5DFA-141C-4A45-A872-EF2B3D98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CC1-AD65-4A05-9365-B43D60BF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Amplitu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0" y="3581280"/>
            <a:ext cx="9144000" cy="2438640"/>
          </a:xfrm>
          <a:prstGeom prst="rect">
            <a:avLst/>
          </a:prstGeom>
          <a:solidFill>
            <a:srgbClr val="000000">
              <a:alpha val="73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209680" y="838080"/>
            <a:ext cx="510408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phing Trig Function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300px-Sine_cosine_plot">
            <a:hlinkClick r:id="rId1" action="ppaction://hlinksldjump"/>
          </p:cNvPr>
          <p:cNvPicPr/>
          <p:nvPr/>
        </p:nvPicPr>
        <p:blipFill>
          <a:blip r:embed="rId2"/>
          <a:srcRect l="-983" t="-1909" r="0" b="0"/>
          <a:stretch/>
        </p:blipFill>
        <p:spPr>
          <a:xfrm>
            <a:off x="304920" y="42670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mplitud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76400" y="427032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endulum-cosin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6880" y="4286160"/>
            <a:ext cx="175284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0423400-sine-curv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92800" y="4282920"/>
            <a:ext cx="1524240" cy="14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304920" y="3733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Graphing Sine and Cos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9520" y="3733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Amplitud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056360" y="36752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Horizontal &amp; Vertical Shif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114880" y="3736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Period Leng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period leng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 length is the distance between any two repeating points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period length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reciprocal of the b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 change in period leng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horizont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rizontal shift is the distance moved left or right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horizont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x value left (add) or right (subtract) by the value of 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vertic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tical shift is the distance moved up or down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vertic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y value up(+) or down(-) by the value of 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68960" y="1852560"/>
          <a:ext cx="27558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852560"/>
                    <a:ext cx="2755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 and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using the following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raphing 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Graphing co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828800"/>
          <a:ext cx="350532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in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3581280" y="182880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0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3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utoShape 35"/>
          <p:cNvSpPr/>
          <p:nvPr/>
        </p:nvSpPr>
        <p:spPr>
          <a:xfrm>
            <a:off x="2895480" y="25146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2895480" y="3200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895480" y="38862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28954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895480" y="5257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181480" y="182880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3">
            <a:hlinkClick r:id="" action="ppaction://hlinkshowjump?jump=nextslide"/>
          </p:cNvPr>
          <p:cNvSpPr/>
          <p:nvPr/>
        </p:nvSpPr>
        <p:spPr>
          <a:xfrm>
            <a:off x="8201160" y="6022800"/>
            <a:ext cx="739800" cy="624240"/>
          </a:xfrm>
          <a:custGeom>
            <a:avLst/>
            <a:gdLst>
              <a:gd name="textAreaLeft" fmla="*/ 40320 w 739800"/>
              <a:gd name="textAreaRight" fmla="*/ 699480 w 739800"/>
              <a:gd name="textAreaTop" fmla="*/ 40320 h 624240"/>
              <a:gd name="textAreaBottom" fmla="*/ 583920 h 624240"/>
            </a:gdLst>
            <a:ahLst/>
            <a:rect l="textAreaLeft" t="textAreaTop" r="textAreaRight" b="textAreaBottom"/>
            <a:pathLst>
              <a:path w="25596" h="21600">
                <a:moveTo>
                  <a:pt x="0" y="0"/>
                </a:moveTo>
                <a:lnTo>
                  <a:pt x="25596" y="0"/>
                </a:lnTo>
                <a:lnTo>
                  <a:pt x="25596" y="21600"/>
                </a:lnTo>
                <a:lnTo>
                  <a:pt x="0" y="21600"/>
                </a:lnTo>
                <a:close/>
              </a:path>
              <a:path fill="lightenLess" w="25596" h="21600">
                <a:moveTo>
                  <a:pt x="0" y="0"/>
                </a:moveTo>
                <a:lnTo>
                  <a:pt x="25596" y="0"/>
                </a:lnTo>
                <a:lnTo>
                  <a:pt x="24196" y="1400"/>
                </a:lnTo>
                <a:lnTo>
                  <a:pt x="1400" y="1400"/>
                </a:lnTo>
                <a:close/>
              </a:path>
              <a:path fill="darken" w="25596" h="21600">
                <a:moveTo>
                  <a:pt x="25596" y="0"/>
                </a:moveTo>
                <a:lnTo>
                  <a:pt x="25596" y="21600"/>
                </a:lnTo>
                <a:lnTo>
                  <a:pt x="24196" y="20200"/>
                </a:lnTo>
                <a:lnTo>
                  <a:pt x="24196" y="1400"/>
                </a:lnTo>
                <a:close/>
              </a:path>
              <a:path fill="darkenLess" w="25596" h="21600">
                <a:moveTo>
                  <a:pt x="2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6" y="20200"/>
                </a:lnTo>
                <a:close/>
              </a:path>
              <a:path fill="lighten" w="2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6" h="21600">
                <a:moveTo>
                  <a:pt x="5792" y="3794"/>
                </a:moveTo>
                <a:lnTo>
                  <a:pt x="19805" y="10800"/>
                </a:lnTo>
                <a:lnTo>
                  <a:pt x="57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0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7"/>
          <p:cNvGraphicFramePr/>
          <p:nvPr/>
        </p:nvGraphicFramePr>
        <p:xfrm>
          <a:off x="7005600" y="3957480"/>
          <a:ext cx="4953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5600" y="3957480"/>
                    <a:ext cx="495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3290760" y="307656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62360" y="390996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752480"/>
          <a:ext cx="3505320" cy="419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Cos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28"/>
              <p:cNvSpPr txBox="1"/>
              <p:nvPr/>
            </p:nvSpPr>
            <p:spPr>
              <a:xfrm>
                <a:off x="3581280" y="175248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0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1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3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35"/>
          <p:cNvSpPr/>
          <p:nvPr/>
        </p:nvSpPr>
        <p:spPr>
          <a:xfrm>
            <a:off x="4800600" y="18288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co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6"/>
          <p:cNvSpPr/>
          <p:nvPr/>
        </p:nvSpPr>
        <p:spPr>
          <a:xfrm>
            <a:off x="2666880" y="24382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2666880" y="31240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2666880" y="38098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9"/>
          <p:cNvSpPr/>
          <p:nvPr/>
        </p:nvSpPr>
        <p:spPr>
          <a:xfrm>
            <a:off x="26668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2666880" y="51814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3">
            <a:hlinkClick r:id="" action="ppaction://hlinkshowjump?jump=nextslide"/>
          </p:cNvPr>
          <p:cNvSpPr/>
          <p:nvPr/>
        </p:nvSpPr>
        <p:spPr>
          <a:xfrm>
            <a:off x="8215200" y="6168960"/>
            <a:ext cx="609840" cy="478080"/>
          </a:xfrm>
          <a:custGeom>
            <a:avLst/>
            <a:gdLst>
              <a:gd name="textAreaLeft" fmla="*/ 30960 w 609840"/>
              <a:gd name="textAreaRight" fmla="*/ 578880 w 60984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549" h="21600">
                <a:moveTo>
                  <a:pt x="0" y="0"/>
                </a:moveTo>
                <a:lnTo>
                  <a:pt x="27549" y="0"/>
                </a:lnTo>
                <a:lnTo>
                  <a:pt x="27549" y="21600"/>
                </a:lnTo>
                <a:lnTo>
                  <a:pt x="0" y="21600"/>
                </a:lnTo>
                <a:close/>
              </a:path>
              <a:path fill="lightenLess" w="27549" h="21600">
                <a:moveTo>
                  <a:pt x="0" y="0"/>
                </a:moveTo>
                <a:lnTo>
                  <a:pt x="27549" y="0"/>
                </a:lnTo>
                <a:lnTo>
                  <a:pt x="26149" y="1400"/>
                </a:lnTo>
                <a:lnTo>
                  <a:pt x="1400" y="1400"/>
                </a:lnTo>
                <a:close/>
              </a:path>
              <a:path fill="darken" w="27549" h="21600">
                <a:moveTo>
                  <a:pt x="27549" y="0"/>
                </a:moveTo>
                <a:lnTo>
                  <a:pt x="27549" y="21600"/>
                </a:lnTo>
                <a:lnTo>
                  <a:pt x="26149" y="20200"/>
                </a:lnTo>
                <a:lnTo>
                  <a:pt x="26149" y="1400"/>
                </a:lnTo>
                <a:close/>
              </a:path>
              <a:path fill="darkenLess" w="27549" h="21600">
                <a:moveTo>
                  <a:pt x="2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49" y="20200"/>
                </a:lnTo>
                <a:close/>
              </a:path>
              <a:path fill="lighten" w="2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49" h="21600">
                <a:moveTo>
                  <a:pt x="6768" y="3794"/>
                </a:moveTo>
                <a:lnTo>
                  <a:pt x="20781" y="10800"/>
                </a:lnTo>
                <a:lnTo>
                  <a:pt x="67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1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6"/>
          <p:cNvGraphicFramePr/>
          <p:nvPr/>
        </p:nvGraphicFramePr>
        <p:xfrm>
          <a:off x="6993000" y="3957480"/>
          <a:ext cx="5205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3000" y="3957480"/>
                    <a:ext cx="5205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7"/>
          <p:cNvSpPr/>
          <p:nvPr/>
        </p:nvSpPr>
        <p:spPr>
          <a:xfrm>
            <a:off x="3290760" y="390528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862360" y="306720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Co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0">
            <a:hlinkClick r:id="rId4" action="ppaction://hlinksldjump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plitude is the distance from the midpoint to the highest or lowest point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n amplitude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343400" y="1849320"/>
          <a:ext cx="2808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49320"/>
                    <a:ext cx="2808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change in 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3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5" descr="a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258912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0:52:06Z</dcterms:created>
  <dc:creator>Mallary Kamen User</dc:creator>
  <dc:description/>
  <cp:keywords/>
  <dc:language>en-US</dc:language>
  <cp:lastModifiedBy>KamenMa</cp:lastModifiedBy>
  <cp:lastPrinted>1904-01-01T00:00:00Z</cp:lastPrinted>
  <dcterms:modified xsi:type="dcterms:W3CDTF">2010-10-26T18:41:41Z</dcterms:modified>
  <cp:revision>111</cp:revision>
  <dc:subject/>
  <dc:title>PowerPoint Presentation</dc:title>
</cp:coreProperties>
</file>