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560D-A143-4F1D-A692-D81EE28DFBE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7D3F-D7FA-45B2-B926-BF2B6C249258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FA4F-8D6E-4A27-A04E-322E968047A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C3A6-45D6-4516-83E2-1FBB3B6CB8DC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B53B-433A-4E44-8D86-F4ECA084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F1B-0327-40DF-93EB-2C186D7B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244C-D116-4396-AB85-EC38E37C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3CE0-441E-41A7-91A1-9DC26F86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D6B7-2A37-44D9-9D7C-38B1A54A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CD78-A694-4FD0-A6B2-BFDF5583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8848-9314-4984-9BEE-F462BB09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EC23-6C41-4449-8293-1AD3A871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16D0-12BE-43C3-8FF8-E6BF9BC4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440A-8E67-4202-9634-C1B91119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00B8-1BD0-408B-A7E2-14AC5E4D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A916-D6AC-4C4F-A6A4-E0360A73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04D3-8080-4BBA-BA79-FA8E20F9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8EE6-5A6B-493C-9397-B6B83066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19C1-4AD4-4AB5-AED4-0F603373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14C6-5272-4FB5-B35A-7548D884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C88D-DF21-4320-A3BB-43BBF68B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535E-84A2-4F87-A1F7-0506C5CC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EFB-B244-4036-B781-C7556F07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CB29-7850-4CFE-899D-A653F96B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5908-8FF2-4A78-810A-7F1932D7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96A4-8368-4426-9EE0-139B482A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5992-8695-4723-88AD-C24D6AB8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9109-A534-4BA9-B047-E1C41021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908E-A335-4C21-9C45-49A5298E6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3675-F230-4C3D-AE97-272B4E36B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image" Target="../media/image2.png"/><Relationship Id="rId5" Type="http://schemas.openxmlformats.org/officeDocument/2006/relationships/slide" Target="slide10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raphingtrigvideos.wikispaces.com/Worksheets" TargetMode="Externa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raphingtrigvideos.wikispaces.com/Worksheets" TargetMode="External"/><Relationship Id="rId2" Type="http://schemas.openxmlformats.org/officeDocument/2006/relationships/slide" Target="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raphingtrigvideos.wikispaces.com/Worksheets" TargetMode="Externa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raphingtrigvideos.wikispaces.com/Amplitude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0" y="3581280"/>
            <a:ext cx="9144000" cy="2438640"/>
          </a:xfrm>
          <a:prstGeom prst="rect">
            <a:avLst/>
          </a:prstGeom>
          <a:solidFill>
            <a:srgbClr val="000000">
              <a:alpha val="73000"/>
            </a:srgbClr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2209680" y="838080"/>
            <a:ext cx="5104080" cy="118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Graphing Trig Function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Picture 7" descr="300px-Sine_cosine_plot">
            <a:hlinkClick r:id="rId1" action="ppaction://hlinksldjump"/>
          </p:cNvPr>
          <p:cNvPicPr/>
          <p:nvPr/>
        </p:nvPicPr>
        <p:blipFill>
          <a:blip r:embed="rId2"/>
          <a:srcRect l="-983" t="-1909" r="0" b="0"/>
          <a:stretch/>
        </p:blipFill>
        <p:spPr>
          <a:xfrm>
            <a:off x="304920" y="4267080"/>
            <a:ext cx="1981080" cy="1333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amplitud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876400" y="4270320"/>
            <a:ext cx="1676520" cy="14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pendulum-cosin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006880" y="4286160"/>
            <a:ext cx="1752840" cy="1336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s0423400-sine-curve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192800" y="4282920"/>
            <a:ext cx="1524240" cy="14716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4"/>
          <p:cNvSpPr/>
          <p:nvPr/>
        </p:nvSpPr>
        <p:spPr>
          <a:xfrm>
            <a:off x="304920" y="373392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Trebuchet MS"/>
              </a:rPr>
              <a:t>Graphing Sine and Cosin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2819520" y="3733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Trebuchet MS"/>
              </a:rPr>
              <a:t>Amplitud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7056360" y="367524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Trebuchet MS"/>
              </a:rPr>
              <a:t>Horizontal &amp; Vertical Shif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5114880" y="37368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Trebuchet MS"/>
              </a:rPr>
              <a:t>Period Leng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eriod Length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is section complete this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orkshee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use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general information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help you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xt, use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video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to help you understand how to grap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eriod length general inform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7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standard form                                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represents the period length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riod length is the distance between any two repeating points on the graph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eps to graph a period length chang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raph the parent functio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ultiply each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oordinate by the reciprocal of the b valu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ot each new point with the original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value and new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valu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343400" y="1852560"/>
          <a:ext cx="280836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852560"/>
                    <a:ext cx="28083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AutoShape 5">
            <a:hlinkClick r:id="" action="ppaction://hlinkshowjump?jump=nextslide"/>
          </p:cNvPr>
          <p:cNvSpPr/>
          <p:nvPr/>
        </p:nvSpPr>
        <p:spPr>
          <a:xfrm>
            <a:off x="8186760" y="6081840"/>
            <a:ext cx="638280" cy="493560"/>
          </a:xfrm>
          <a:custGeom>
            <a:avLst/>
            <a:gdLst>
              <a:gd name="textAreaLeft" fmla="*/ 31680 w 638280"/>
              <a:gd name="textAreaRight" fmla="*/ 606600 w 63828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7929" h="21600">
                <a:moveTo>
                  <a:pt x="0" y="0"/>
                </a:moveTo>
                <a:lnTo>
                  <a:pt x="27929" y="0"/>
                </a:lnTo>
                <a:lnTo>
                  <a:pt x="27929" y="21600"/>
                </a:lnTo>
                <a:lnTo>
                  <a:pt x="0" y="21600"/>
                </a:lnTo>
                <a:close/>
              </a:path>
              <a:path fill="lightenLess" w="27929" h="21600">
                <a:moveTo>
                  <a:pt x="0" y="0"/>
                </a:moveTo>
                <a:lnTo>
                  <a:pt x="27929" y="0"/>
                </a:lnTo>
                <a:lnTo>
                  <a:pt x="26529" y="1400"/>
                </a:lnTo>
                <a:lnTo>
                  <a:pt x="1400" y="1400"/>
                </a:lnTo>
                <a:close/>
              </a:path>
              <a:path fill="darken" w="27929" h="21600">
                <a:moveTo>
                  <a:pt x="27929" y="0"/>
                </a:moveTo>
                <a:lnTo>
                  <a:pt x="27929" y="21600"/>
                </a:lnTo>
                <a:lnTo>
                  <a:pt x="26529" y="20200"/>
                </a:lnTo>
                <a:lnTo>
                  <a:pt x="26529" y="1400"/>
                </a:lnTo>
                <a:close/>
              </a:path>
              <a:path fill="darkenLess" w="27929" h="21600">
                <a:moveTo>
                  <a:pt x="27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9" y="20200"/>
                </a:lnTo>
                <a:close/>
              </a:path>
              <a:path fill="lighten" w="27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9" h="21600">
                <a:moveTo>
                  <a:pt x="6958" y="3794"/>
                </a:moveTo>
                <a:lnTo>
                  <a:pt x="20971" y="10800"/>
                </a:lnTo>
                <a:lnTo>
                  <a:pt x="69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phing a change in period length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959120" y="16984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tch and take notes on this video. Then try the two practice problems on your workshe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5">
            <a:hlinkClick r:id="" action="ppaction://hlinkshowjump?jump=firstslide"/>
          </p:cNvPr>
          <p:cNvSpPr/>
          <p:nvPr/>
        </p:nvSpPr>
        <p:spPr>
          <a:xfrm>
            <a:off x="0" y="594036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orizontal Shif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is section complete this workshee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use the general information to help you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xt, use the video to help you understand how to grap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orizontal shift general inform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7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standard form                                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represents the horizontal shift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rizontal shift is the distance moved left or right from the original functio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eps to graph a horizontal shif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raph the parent functio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ve each x value left (add) or right (subtract) by the value of c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ot each new point and connect the lin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4343400" y="1852560"/>
          <a:ext cx="280836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852560"/>
                    <a:ext cx="28083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AutoShape 5">
            <a:hlinkClick r:id="" action="ppaction://hlinkshowjump?jump=nextslide"/>
          </p:cNvPr>
          <p:cNvSpPr/>
          <p:nvPr/>
        </p:nvSpPr>
        <p:spPr>
          <a:xfrm>
            <a:off x="8186760" y="6081840"/>
            <a:ext cx="638280" cy="493560"/>
          </a:xfrm>
          <a:custGeom>
            <a:avLst/>
            <a:gdLst>
              <a:gd name="textAreaLeft" fmla="*/ 31680 w 638280"/>
              <a:gd name="textAreaRight" fmla="*/ 606600 w 63828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7929" h="21600">
                <a:moveTo>
                  <a:pt x="0" y="0"/>
                </a:moveTo>
                <a:lnTo>
                  <a:pt x="27929" y="0"/>
                </a:lnTo>
                <a:lnTo>
                  <a:pt x="27929" y="21600"/>
                </a:lnTo>
                <a:lnTo>
                  <a:pt x="0" y="21600"/>
                </a:lnTo>
                <a:close/>
              </a:path>
              <a:path fill="lightenLess" w="27929" h="21600">
                <a:moveTo>
                  <a:pt x="0" y="0"/>
                </a:moveTo>
                <a:lnTo>
                  <a:pt x="27929" y="0"/>
                </a:lnTo>
                <a:lnTo>
                  <a:pt x="26529" y="1400"/>
                </a:lnTo>
                <a:lnTo>
                  <a:pt x="1400" y="1400"/>
                </a:lnTo>
                <a:close/>
              </a:path>
              <a:path fill="darken" w="27929" h="21600">
                <a:moveTo>
                  <a:pt x="27929" y="0"/>
                </a:moveTo>
                <a:lnTo>
                  <a:pt x="27929" y="21600"/>
                </a:lnTo>
                <a:lnTo>
                  <a:pt x="26529" y="20200"/>
                </a:lnTo>
                <a:lnTo>
                  <a:pt x="26529" y="1400"/>
                </a:lnTo>
                <a:close/>
              </a:path>
              <a:path fill="darkenLess" w="27929" h="21600">
                <a:moveTo>
                  <a:pt x="27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9" y="20200"/>
                </a:lnTo>
                <a:close/>
              </a:path>
              <a:path fill="lighten" w="27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9" h="21600">
                <a:moveTo>
                  <a:pt x="6958" y="3794"/>
                </a:moveTo>
                <a:lnTo>
                  <a:pt x="20971" y="10800"/>
                </a:lnTo>
                <a:lnTo>
                  <a:pt x="69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a horizontal shif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959120" y="16984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tch and take notes on this video. Then try the two practice problems on your workshe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AutoShape 4">
            <a:hlinkClick r:id="" action="ppaction://hlinkshowjump?jump=firstslide"/>
          </p:cNvPr>
          <p:cNvSpPr/>
          <p:nvPr/>
        </p:nvSpPr>
        <p:spPr>
          <a:xfrm>
            <a:off x="0" y="594036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ertical Shif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is section complete this workshee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use the general information to help you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xt, use the video to help you understand how to grap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ertical shift general inform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7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standard form                                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represents the vertical shift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ertical shift is the distance moved up or down from the original functio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eps to graph a vertical shif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raph the parent functio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ve each y value up(+) or down(-) by the value of 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ot each new point and connect the lin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4368960" y="1852560"/>
          <a:ext cx="275580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8960" y="1852560"/>
                    <a:ext cx="2755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AutoShape 5">
            <a:hlinkClick r:id="" action="ppaction://hlinkshowjump?jump=nextslide"/>
          </p:cNvPr>
          <p:cNvSpPr/>
          <p:nvPr/>
        </p:nvSpPr>
        <p:spPr>
          <a:xfrm>
            <a:off x="8186760" y="6081840"/>
            <a:ext cx="638280" cy="493560"/>
          </a:xfrm>
          <a:custGeom>
            <a:avLst/>
            <a:gdLst>
              <a:gd name="textAreaLeft" fmla="*/ 31680 w 638280"/>
              <a:gd name="textAreaRight" fmla="*/ 606600 w 63828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7929" h="21600">
                <a:moveTo>
                  <a:pt x="0" y="0"/>
                </a:moveTo>
                <a:lnTo>
                  <a:pt x="27929" y="0"/>
                </a:lnTo>
                <a:lnTo>
                  <a:pt x="27929" y="21600"/>
                </a:lnTo>
                <a:lnTo>
                  <a:pt x="0" y="21600"/>
                </a:lnTo>
                <a:close/>
              </a:path>
              <a:path fill="lightenLess" w="27929" h="21600">
                <a:moveTo>
                  <a:pt x="0" y="0"/>
                </a:moveTo>
                <a:lnTo>
                  <a:pt x="27929" y="0"/>
                </a:lnTo>
                <a:lnTo>
                  <a:pt x="26529" y="1400"/>
                </a:lnTo>
                <a:lnTo>
                  <a:pt x="1400" y="1400"/>
                </a:lnTo>
                <a:close/>
              </a:path>
              <a:path fill="darken" w="27929" h="21600">
                <a:moveTo>
                  <a:pt x="27929" y="0"/>
                </a:moveTo>
                <a:lnTo>
                  <a:pt x="27929" y="21600"/>
                </a:lnTo>
                <a:lnTo>
                  <a:pt x="26529" y="20200"/>
                </a:lnTo>
                <a:lnTo>
                  <a:pt x="26529" y="1400"/>
                </a:lnTo>
                <a:close/>
              </a:path>
              <a:path fill="darkenLess" w="27929" h="21600">
                <a:moveTo>
                  <a:pt x="27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9" y="20200"/>
                </a:lnTo>
                <a:close/>
              </a:path>
              <a:path fill="lighten" w="27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9" h="21600">
                <a:moveTo>
                  <a:pt x="6958" y="3794"/>
                </a:moveTo>
                <a:lnTo>
                  <a:pt x="20971" y="10800"/>
                </a:lnTo>
                <a:lnTo>
                  <a:pt x="69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a vertical shif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959120" y="16984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tch and take notes on this video. Then try the two practice problems on your workshe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AutoShape 4">
            <a:hlinkClick r:id="" action="ppaction://hlinkshowjump?jump=firstslide"/>
          </p:cNvPr>
          <p:cNvSpPr/>
          <p:nvPr/>
        </p:nvSpPr>
        <p:spPr>
          <a:xfrm>
            <a:off x="0" y="594036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Sine and Cos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lete this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orkshee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y using the following slid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Graphing s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Graphing cos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S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43000" y="1828800"/>
          <a:ext cx="3505320" cy="411480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Radian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Sin(     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1" name="Object 28"/>
              <p:cNvSpPr txBox="1"/>
              <p:nvPr/>
            </p:nvSpPr>
            <p:spPr>
              <a:xfrm>
                <a:off x="3581280" y="1828800"/>
                <a:ext cx="432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30"/>
              <p:cNvSpPr txBox="1"/>
              <p:nvPr/>
            </p:nvSpPr>
            <p:spPr>
              <a:xfrm>
                <a:off x="1676520" y="2590920"/>
                <a:ext cx="3823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31"/>
              <p:cNvSpPr txBox="1"/>
              <p:nvPr/>
            </p:nvSpPr>
            <p:spPr>
              <a:xfrm>
                <a:off x="1592280" y="3200400"/>
                <a:ext cx="620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32"/>
              <p:cNvSpPr txBox="1"/>
              <p:nvPr/>
            </p:nvSpPr>
            <p:spPr>
              <a:xfrm>
                <a:off x="1676520" y="4038480"/>
                <a:ext cx="4809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33"/>
              <p:cNvSpPr txBox="1"/>
              <p:nvPr/>
            </p:nvSpPr>
            <p:spPr>
              <a:xfrm>
                <a:off x="1447920" y="4572000"/>
                <a:ext cx="8157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34"/>
              <p:cNvSpPr txBox="1"/>
              <p:nvPr/>
            </p:nvSpPr>
            <p:spPr>
              <a:xfrm>
                <a:off x="1523880" y="5334120"/>
                <a:ext cx="7686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AutoShape 35"/>
          <p:cNvSpPr/>
          <p:nvPr/>
        </p:nvSpPr>
        <p:spPr>
          <a:xfrm>
            <a:off x="2895480" y="25146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36"/>
          <p:cNvSpPr/>
          <p:nvPr/>
        </p:nvSpPr>
        <p:spPr>
          <a:xfrm>
            <a:off x="2895480" y="32004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37"/>
          <p:cNvSpPr/>
          <p:nvPr/>
        </p:nvSpPr>
        <p:spPr>
          <a:xfrm>
            <a:off x="2895480" y="38862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38"/>
          <p:cNvSpPr/>
          <p:nvPr/>
        </p:nvSpPr>
        <p:spPr>
          <a:xfrm>
            <a:off x="2895480" y="45720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39"/>
          <p:cNvSpPr/>
          <p:nvPr/>
        </p:nvSpPr>
        <p:spPr>
          <a:xfrm>
            <a:off x="2895480" y="52578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0"/>
          <p:cNvSpPr/>
          <p:nvPr/>
        </p:nvSpPr>
        <p:spPr>
          <a:xfrm>
            <a:off x="5181480" y="1828800"/>
            <a:ext cx="373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graph the sine function we need to plot points we already know from our unit circle. Find the x and y coordinates of the following values. The x values represent the radians and the y values represent the sine values. Click each ? button to see if your answer is correc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AutoShape 43">
            <a:hlinkClick r:id="" action="ppaction://hlinkshowjump?jump=nextslide"/>
          </p:cNvPr>
          <p:cNvSpPr/>
          <p:nvPr/>
        </p:nvSpPr>
        <p:spPr>
          <a:xfrm>
            <a:off x="8201160" y="6022800"/>
            <a:ext cx="739800" cy="624240"/>
          </a:xfrm>
          <a:custGeom>
            <a:avLst/>
            <a:gdLst>
              <a:gd name="textAreaLeft" fmla="*/ 40320 w 739800"/>
              <a:gd name="textAreaRight" fmla="*/ 699480 w 739800"/>
              <a:gd name="textAreaTop" fmla="*/ 40320 h 624240"/>
              <a:gd name="textAreaBottom" fmla="*/ 583920 h 624240"/>
            </a:gdLst>
            <a:ahLst/>
            <a:rect l="textAreaLeft" t="textAreaTop" r="textAreaRight" b="textAreaBottom"/>
            <a:pathLst>
              <a:path w="25596" h="21600">
                <a:moveTo>
                  <a:pt x="0" y="0"/>
                </a:moveTo>
                <a:lnTo>
                  <a:pt x="25596" y="0"/>
                </a:lnTo>
                <a:lnTo>
                  <a:pt x="25596" y="21600"/>
                </a:lnTo>
                <a:lnTo>
                  <a:pt x="0" y="21600"/>
                </a:lnTo>
                <a:close/>
              </a:path>
              <a:path fill="lightenLess" w="25596" h="21600">
                <a:moveTo>
                  <a:pt x="0" y="0"/>
                </a:moveTo>
                <a:lnTo>
                  <a:pt x="25596" y="0"/>
                </a:lnTo>
                <a:lnTo>
                  <a:pt x="24196" y="1400"/>
                </a:lnTo>
                <a:lnTo>
                  <a:pt x="1400" y="1400"/>
                </a:lnTo>
                <a:close/>
              </a:path>
              <a:path fill="darken" w="25596" h="21600">
                <a:moveTo>
                  <a:pt x="25596" y="0"/>
                </a:moveTo>
                <a:lnTo>
                  <a:pt x="25596" y="21600"/>
                </a:lnTo>
                <a:lnTo>
                  <a:pt x="24196" y="20200"/>
                </a:lnTo>
                <a:lnTo>
                  <a:pt x="24196" y="1400"/>
                </a:lnTo>
                <a:close/>
              </a:path>
              <a:path fill="darkenLess" w="25596" h="21600">
                <a:moveTo>
                  <a:pt x="25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6" y="20200"/>
                </a:lnTo>
                <a:close/>
              </a:path>
              <a:path fill="lighten" w="25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6" h="21600">
                <a:moveTo>
                  <a:pt x="5792" y="3794"/>
                </a:moveTo>
                <a:lnTo>
                  <a:pt x="19805" y="10800"/>
                </a:lnTo>
                <a:lnTo>
                  <a:pt x="579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ent Graph of S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105520" y="228600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need to plot the first point (0,0). Click to graph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081760" y="3703680"/>
            <a:ext cx="2495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xt we need to graph the poi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graph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graph"/>
          <p:cNvPicPr/>
          <p:nvPr/>
        </p:nvPicPr>
        <p:blipFill>
          <a:blip r:embed="rId1"/>
          <a:stretch/>
        </p:blipFill>
        <p:spPr>
          <a:xfrm>
            <a:off x="942840" y="1728720"/>
            <a:ext cx="3962520" cy="512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Object 7"/>
          <p:cNvGraphicFramePr/>
          <p:nvPr/>
        </p:nvGraphicFramePr>
        <p:xfrm>
          <a:off x="7005600" y="3957480"/>
          <a:ext cx="495360" cy="3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05600" y="3957480"/>
                    <a:ext cx="4953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AutoShape 8"/>
          <p:cNvSpPr/>
          <p:nvPr/>
        </p:nvSpPr>
        <p:spPr>
          <a:xfrm>
            <a:off x="3290760" y="3076560"/>
            <a:ext cx="152640" cy="15228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2862360" y="3909960"/>
            <a:ext cx="152280" cy="15228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5167440" y="5108400"/>
            <a:ext cx="26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ot and connect the rest of your points to create the parent function for Sin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12">
            <a:hlinkClick r:id="" action="ppaction://hlinkshowjump?jump=nextslide"/>
          </p:cNvPr>
          <p:cNvSpPr/>
          <p:nvPr/>
        </p:nvSpPr>
        <p:spPr>
          <a:xfrm>
            <a:off x="7010280" y="304920"/>
            <a:ext cx="1828800" cy="1218960"/>
          </a:xfrm>
          <a:custGeom>
            <a:avLst/>
            <a:gdLst>
              <a:gd name="textAreaLeft" fmla="*/ 78840 w 1828800"/>
              <a:gd name="textAreaRight" fmla="*/ 1749960 w 18288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32403" h="21600">
                <a:moveTo>
                  <a:pt x="0" y="0"/>
                </a:moveTo>
                <a:lnTo>
                  <a:pt x="32403" y="0"/>
                </a:lnTo>
                <a:lnTo>
                  <a:pt x="32403" y="21600"/>
                </a:lnTo>
                <a:lnTo>
                  <a:pt x="0" y="21600"/>
                </a:lnTo>
                <a:close/>
              </a:path>
              <a:path fill="lightenLess" w="32403" h="21600">
                <a:moveTo>
                  <a:pt x="0" y="0"/>
                </a:moveTo>
                <a:lnTo>
                  <a:pt x="32403" y="0"/>
                </a:lnTo>
                <a:lnTo>
                  <a:pt x="31003" y="1400"/>
                </a:lnTo>
                <a:lnTo>
                  <a:pt x="1400" y="1400"/>
                </a:lnTo>
                <a:close/>
              </a:path>
              <a:path fill="darken" w="32403" h="21600">
                <a:moveTo>
                  <a:pt x="32403" y="0"/>
                </a:moveTo>
                <a:lnTo>
                  <a:pt x="32403" y="21600"/>
                </a:lnTo>
                <a:lnTo>
                  <a:pt x="31003" y="20200"/>
                </a:lnTo>
                <a:lnTo>
                  <a:pt x="31003" y="1400"/>
                </a:lnTo>
                <a:close/>
              </a:path>
              <a:path fill="darkenLess" w="32403" h="21600">
                <a:moveTo>
                  <a:pt x="324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3" y="20200"/>
                </a:lnTo>
                <a:close/>
              </a:path>
              <a:path fill="lighten" w="324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he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grap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s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13">
            <a:hlinkClick r:id="" action="ppaction://hlinkshowjump?jump=firstslide"/>
          </p:cNvPr>
          <p:cNvSpPr/>
          <p:nvPr/>
        </p:nvSpPr>
        <p:spPr>
          <a:xfrm>
            <a:off x="0" y="59436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Cos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752480"/>
          <a:ext cx="3505320" cy="419112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</a:tblGrid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Radian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Cos(     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7" name="Object 28"/>
              <p:cNvSpPr txBox="1"/>
              <p:nvPr/>
            </p:nvSpPr>
            <p:spPr>
              <a:xfrm>
                <a:off x="3581280" y="1752480"/>
                <a:ext cx="432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29"/>
              <p:cNvSpPr txBox="1"/>
              <p:nvPr/>
            </p:nvSpPr>
            <p:spPr>
              <a:xfrm>
                <a:off x="1676520" y="2590920"/>
                <a:ext cx="3823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0"/>
              <p:cNvSpPr txBox="1"/>
              <p:nvPr/>
            </p:nvSpPr>
            <p:spPr>
              <a:xfrm>
                <a:off x="1592280" y="3200400"/>
                <a:ext cx="620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1"/>
              <p:cNvSpPr txBox="1"/>
              <p:nvPr/>
            </p:nvSpPr>
            <p:spPr>
              <a:xfrm>
                <a:off x="1676520" y="4038480"/>
                <a:ext cx="4809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32"/>
              <p:cNvSpPr txBox="1"/>
              <p:nvPr/>
            </p:nvSpPr>
            <p:spPr>
              <a:xfrm>
                <a:off x="1447920" y="4572000"/>
                <a:ext cx="8157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33"/>
              <p:cNvSpPr txBox="1"/>
              <p:nvPr/>
            </p:nvSpPr>
            <p:spPr>
              <a:xfrm>
                <a:off x="1523880" y="5334120"/>
                <a:ext cx="7686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Text Box 35"/>
          <p:cNvSpPr/>
          <p:nvPr/>
        </p:nvSpPr>
        <p:spPr>
          <a:xfrm>
            <a:off x="4800600" y="1828800"/>
            <a:ext cx="38098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graph the cosine function we need to plot points we already know from our unit circle. Find the x and y coordinates of the following values. The x values represent the radians and the y values represent the sine values. Click each ? button to see if your answer is correc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36"/>
          <p:cNvSpPr/>
          <p:nvPr/>
        </p:nvSpPr>
        <p:spPr>
          <a:xfrm>
            <a:off x="2666880" y="243828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37"/>
          <p:cNvSpPr/>
          <p:nvPr/>
        </p:nvSpPr>
        <p:spPr>
          <a:xfrm>
            <a:off x="2666880" y="31240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38"/>
          <p:cNvSpPr/>
          <p:nvPr/>
        </p:nvSpPr>
        <p:spPr>
          <a:xfrm>
            <a:off x="2666880" y="38098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39"/>
          <p:cNvSpPr/>
          <p:nvPr/>
        </p:nvSpPr>
        <p:spPr>
          <a:xfrm>
            <a:off x="2666880" y="45720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40"/>
          <p:cNvSpPr/>
          <p:nvPr/>
        </p:nvSpPr>
        <p:spPr>
          <a:xfrm>
            <a:off x="2666880" y="51814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43">
            <a:hlinkClick r:id="" action="ppaction://hlinkshowjump?jump=nextslide"/>
          </p:cNvPr>
          <p:cNvSpPr/>
          <p:nvPr/>
        </p:nvSpPr>
        <p:spPr>
          <a:xfrm>
            <a:off x="8215200" y="6168960"/>
            <a:ext cx="609840" cy="478080"/>
          </a:xfrm>
          <a:custGeom>
            <a:avLst/>
            <a:gdLst>
              <a:gd name="textAreaLeft" fmla="*/ 30960 w 609840"/>
              <a:gd name="textAreaRight" fmla="*/ 578880 w 609840"/>
              <a:gd name="textAreaTop" fmla="*/ 30960 h 478080"/>
              <a:gd name="textAreaBottom" fmla="*/ 447120 h 478080"/>
            </a:gdLst>
            <a:ahLst/>
            <a:rect l="textAreaLeft" t="textAreaTop" r="textAreaRight" b="textAreaBottom"/>
            <a:pathLst>
              <a:path w="27549" h="21600">
                <a:moveTo>
                  <a:pt x="0" y="0"/>
                </a:moveTo>
                <a:lnTo>
                  <a:pt x="27549" y="0"/>
                </a:lnTo>
                <a:lnTo>
                  <a:pt x="27549" y="21600"/>
                </a:lnTo>
                <a:lnTo>
                  <a:pt x="0" y="21600"/>
                </a:lnTo>
                <a:close/>
              </a:path>
              <a:path fill="lightenLess" w="27549" h="21600">
                <a:moveTo>
                  <a:pt x="0" y="0"/>
                </a:moveTo>
                <a:lnTo>
                  <a:pt x="27549" y="0"/>
                </a:lnTo>
                <a:lnTo>
                  <a:pt x="26149" y="1400"/>
                </a:lnTo>
                <a:lnTo>
                  <a:pt x="1400" y="1400"/>
                </a:lnTo>
                <a:close/>
              </a:path>
              <a:path fill="darken" w="27549" h="21600">
                <a:moveTo>
                  <a:pt x="27549" y="0"/>
                </a:moveTo>
                <a:lnTo>
                  <a:pt x="27549" y="21600"/>
                </a:lnTo>
                <a:lnTo>
                  <a:pt x="26149" y="20200"/>
                </a:lnTo>
                <a:lnTo>
                  <a:pt x="26149" y="1400"/>
                </a:lnTo>
                <a:close/>
              </a:path>
              <a:path fill="darkenLess" w="27549" h="21600">
                <a:moveTo>
                  <a:pt x="27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49" y="20200"/>
                </a:lnTo>
                <a:close/>
              </a:path>
              <a:path fill="lighten" w="27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49" h="21600">
                <a:moveTo>
                  <a:pt x="6768" y="3794"/>
                </a:moveTo>
                <a:lnTo>
                  <a:pt x="20781" y="10800"/>
                </a:lnTo>
                <a:lnTo>
                  <a:pt x="676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ent Graph of Cos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105520" y="228600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need to plot the first point (0,1). Click to graph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5081760" y="3703680"/>
            <a:ext cx="2495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xt we need to graph the poi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graph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5" descr="graph"/>
          <p:cNvPicPr/>
          <p:nvPr/>
        </p:nvPicPr>
        <p:blipFill>
          <a:blip r:embed="rId1"/>
          <a:stretch/>
        </p:blipFill>
        <p:spPr>
          <a:xfrm>
            <a:off x="942840" y="1728720"/>
            <a:ext cx="3962520" cy="512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Object 6"/>
          <p:cNvGraphicFramePr/>
          <p:nvPr/>
        </p:nvGraphicFramePr>
        <p:xfrm>
          <a:off x="6993000" y="3957480"/>
          <a:ext cx="520560" cy="3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93000" y="3957480"/>
                    <a:ext cx="5205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AutoShape 7"/>
          <p:cNvSpPr/>
          <p:nvPr/>
        </p:nvSpPr>
        <p:spPr>
          <a:xfrm>
            <a:off x="3290760" y="3905280"/>
            <a:ext cx="152640" cy="15228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2862360" y="3067200"/>
            <a:ext cx="152280" cy="15228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5167440" y="5108400"/>
            <a:ext cx="26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ot and connect the rest of your points to create the parent function for Cosin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10">
            <a:hlinkClick r:id="rId4" action="ppaction://hlinksldjump"/>
          </p:cNvPr>
          <p:cNvSpPr/>
          <p:nvPr/>
        </p:nvSpPr>
        <p:spPr>
          <a:xfrm>
            <a:off x="7010280" y="304920"/>
            <a:ext cx="1828800" cy="1218960"/>
          </a:xfrm>
          <a:custGeom>
            <a:avLst/>
            <a:gdLst>
              <a:gd name="textAreaLeft" fmla="*/ 78840 w 1828800"/>
              <a:gd name="textAreaRight" fmla="*/ 1749960 w 18288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32403" h="21600">
                <a:moveTo>
                  <a:pt x="0" y="0"/>
                </a:moveTo>
                <a:lnTo>
                  <a:pt x="32403" y="0"/>
                </a:lnTo>
                <a:lnTo>
                  <a:pt x="32403" y="21600"/>
                </a:lnTo>
                <a:lnTo>
                  <a:pt x="0" y="21600"/>
                </a:lnTo>
                <a:close/>
              </a:path>
              <a:path fill="lightenLess" w="32403" h="21600">
                <a:moveTo>
                  <a:pt x="0" y="0"/>
                </a:moveTo>
                <a:lnTo>
                  <a:pt x="32403" y="0"/>
                </a:lnTo>
                <a:lnTo>
                  <a:pt x="31003" y="1400"/>
                </a:lnTo>
                <a:lnTo>
                  <a:pt x="1400" y="1400"/>
                </a:lnTo>
                <a:close/>
              </a:path>
              <a:path fill="darken" w="32403" h="21600">
                <a:moveTo>
                  <a:pt x="32403" y="0"/>
                </a:moveTo>
                <a:lnTo>
                  <a:pt x="32403" y="21600"/>
                </a:lnTo>
                <a:lnTo>
                  <a:pt x="31003" y="20200"/>
                </a:lnTo>
                <a:lnTo>
                  <a:pt x="31003" y="1400"/>
                </a:lnTo>
                <a:close/>
              </a:path>
              <a:path fill="darkenLess" w="32403" h="21600">
                <a:moveTo>
                  <a:pt x="324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3" y="20200"/>
                </a:lnTo>
                <a:close/>
              </a:path>
              <a:path fill="lighten" w="324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he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grap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11">
            <a:hlinkClick r:id="" action="ppaction://hlinkshowjump?jump=firstslide"/>
          </p:cNvPr>
          <p:cNvSpPr/>
          <p:nvPr/>
        </p:nvSpPr>
        <p:spPr>
          <a:xfrm>
            <a:off x="0" y="594036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mplitu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is section complete this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orkshee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use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general information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help you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xt, use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video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to help you understand how to grap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mplitude general inform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7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standard form                                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represents the amplitud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mplitude is the distance from the midpoint to the highest or lowest point on the graph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eps to graph an amplitude chang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raph the parent functio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ultiply each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oordinate by the amplitud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ot each new point with the original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value and new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valu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4343400" y="1849320"/>
          <a:ext cx="28083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849320"/>
                    <a:ext cx="2808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AutoShape 6">
            <a:hlinkClick r:id="" action="ppaction://hlinkshowjump?jump=nextslide"/>
          </p:cNvPr>
          <p:cNvSpPr/>
          <p:nvPr/>
        </p:nvSpPr>
        <p:spPr>
          <a:xfrm>
            <a:off x="8186760" y="6081840"/>
            <a:ext cx="638280" cy="493560"/>
          </a:xfrm>
          <a:custGeom>
            <a:avLst/>
            <a:gdLst>
              <a:gd name="textAreaLeft" fmla="*/ 31680 w 638280"/>
              <a:gd name="textAreaRight" fmla="*/ 606600 w 63828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7929" h="21600">
                <a:moveTo>
                  <a:pt x="0" y="0"/>
                </a:moveTo>
                <a:lnTo>
                  <a:pt x="27929" y="0"/>
                </a:lnTo>
                <a:lnTo>
                  <a:pt x="27929" y="21600"/>
                </a:lnTo>
                <a:lnTo>
                  <a:pt x="0" y="21600"/>
                </a:lnTo>
                <a:close/>
              </a:path>
              <a:path fill="lightenLess" w="27929" h="21600">
                <a:moveTo>
                  <a:pt x="0" y="0"/>
                </a:moveTo>
                <a:lnTo>
                  <a:pt x="27929" y="0"/>
                </a:lnTo>
                <a:lnTo>
                  <a:pt x="26529" y="1400"/>
                </a:lnTo>
                <a:lnTo>
                  <a:pt x="1400" y="1400"/>
                </a:lnTo>
                <a:close/>
              </a:path>
              <a:path fill="darken" w="27929" h="21600">
                <a:moveTo>
                  <a:pt x="27929" y="0"/>
                </a:moveTo>
                <a:lnTo>
                  <a:pt x="27929" y="21600"/>
                </a:lnTo>
                <a:lnTo>
                  <a:pt x="26529" y="20200"/>
                </a:lnTo>
                <a:lnTo>
                  <a:pt x="26529" y="1400"/>
                </a:lnTo>
                <a:close/>
              </a:path>
              <a:path fill="darkenLess" w="27929" h="21600">
                <a:moveTo>
                  <a:pt x="27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9" y="20200"/>
                </a:lnTo>
                <a:close/>
              </a:path>
              <a:path fill="lighten" w="27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9" h="21600">
                <a:moveTo>
                  <a:pt x="6958" y="3794"/>
                </a:moveTo>
                <a:lnTo>
                  <a:pt x="20971" y="10800"/>
                </a:lnTo>
                <a:lnTo>
                  <a:pt x="69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a change in amplitu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1959120" y="16984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tch and take notes on this video. Then try the two practice problems on your workshe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AutoShape 13">
            <a:hlinkClick r:id="" action="ppaction://hlinkshowjump?jump=firstslide"/>
          </p:cNvPr>
          <p:cNvSpPr/>
          <p:nvPr/>
        </p:nvSpPr>
        <p:spPr>
          <a:xfrm>
            <a:off x="0" y="594036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15" descr="am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7240" y="2589120"/>
            <a:ext cx="4572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20:52:06Z</dcterms:created>
  <dc:creator>Mallary Kamen User</dc:creator>
  <dc:description/>
  <cp:keywords/>
  <dc:language>en-US</dc:language>
  <cp:lastModifiedBy>KamenMa</cp:lastModifiedBy>
  <cp:lastPrinted>1904-01-01T00:00:00Z</cp:lastPrinted>
  <dcterms:modified xsi:type="dcterms:W3CDTF">2010-10-26T18:41:41Z</dcterms:modified>
  <cp:revision>111</cp:revision>
  <dc:subject/>
  <dc:title>PowerPoint Presentation</dc:title>
</cp:coreProperties>
</file>