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F099-F763-4E0B-B919-A19BD569730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AFF1-E7C9-480F-BD2B-29682B3E187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DE80-960D-451B-8B07-B19C715E4B4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8E36-2748-4B29-B88F-303DDA5DDA0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8CD-C03F-4743-BB8A-302DBF60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D81-0121-48A9-B378-1EA389FC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8709-79EF-4D75-9776-2FF667CC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1EB-F260-41A8-8113-C3AD8400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68B0-EC7F-472A-9A08-D0E961E5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DDDB-DF2D-4B9D-A944-DAEC54A9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56BD-07F7-4BF6-A993-3C0626F3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5EFD-E063-435B-B415-3D6FFE63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54D2-A5CC-42DF-AFD1-B9C48C2F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C94F-EC78-4355-A637-2E3E8698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DD50-9D70-4853-9574-13F53E91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0DB-FF1C-4D52-9553-0466B4C9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3928-3241-4A97-A17F-9DD59B79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1AB1-328C-407A-ACE2-9E374A67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2DEE-0F18-4E19-85B9-30E0CE50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2433-48CB-4A5C-A78E-C964C8C4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7C5B-6858-4FAF-9AB0-507F5EB9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C9B-8CAE-47B3-A222-092F216F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1F5-89A5-4269-B6B4-54305275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545-7D9D-4B45-AFDB-30D91382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5B7-EE11-4E6D-975E-2B325486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5FE-988A-42F3-AEBC-1CA97720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B5F-6605-4111-98EB-62862150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BBE-76B3-4C54-ADD6-577FDF68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B190-C5CD-433F-A012-E70D61586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62BA-03E3-4331-998C-6251D81B1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image" Target="../media/image2.png"/><Relationship Id="rId5" Type="http://schemas.openxmlformats.org/officeDocument/2006/relationships/slide" Target="slide10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Worksheets" TargetMode="Externa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Worksheets" TargetMode="External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Worksheets" TargetMode="Externa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Amplitude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0" y="3581280"/>
            <a:ext cx="9144000" cy="2438640"/>
          </a:xfrm>
          <a:prstGeom prst="rect">
            <a:avLst/>
          </a:prstGeom>
          <a:solidFill>
            <a:srgbClr val="000000">
              <a:alpha val="73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209680" y="838080"/>
            <a:ext cx="5104080" cy="11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Graphing Trig Function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Picture 7" descr="300px-Sine_cosine_plot">
            <a:hlinkClick r:id="rId1" action="ppaction://hlinksldjump"/>
          </p:cNvPr>
          <p:cNvPicPr/>
          <p:nvPr/>
        </p:nvPicPr>
        <p:blipFill>
          <a:blip r:embed="rId2"/>
          <a:srcRect l="-983" t="-1909" r="0" b="0"/>
          <a:stretch/>
        </p:blipFill>
        <p:spPr>
          <a:xfrm>
            <a:off x="304920" y="4267080"/>
            <a:ext cx="1981080" cy="1333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amplitud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76400" y="4270320"/>
            <a:ext cx="1676520" cy="14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pendulum-cosin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06880" y="4286160"/>
            <a:ext cx="1752840" cy="1336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s0423400-sine-curve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192800" y="4282920"/>
            <a:ext cx="1524240" cy="1471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4"/>
          <p:cNvSpPr/>
          <p:nvPr/>
        </p:nvSpPr>
        <p:spPr>
          <a:xfrm>
            <a:off x="304920" y="373392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Graphing Sine and Cosin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2819520" y="3733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Amplitud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7056360" y="367524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Horizontal &amp; Vertical Shif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114880" y="37368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Period Leng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riod Lengt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orkshee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general information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vide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riod length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period lengt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iod length is the distance between any two repeating points on the grap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 period length chang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ltiply each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ordinate by the reciprocal of the b valu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with the original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 and new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343400" y="1852560"/>
          <a:ext cx="280836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52560"/>
                    <a:ext cx="280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5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phing a change in period length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5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orizont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workshee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general information 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video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orizontal shift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horizontal shif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rizontal shift is the distance moved left or right from the original functio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 horizontal shif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 each x value left (add) or right (subtract) by the value of c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and connect the lin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4343400" y="1852560"/>
          <a:ext cx="280836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52560"/>
                    <a:ext cx="280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AutoShape 5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 horizont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AutoShape 4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tic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workshee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general information 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video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tical shift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vertical shif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tical shift is the distance moved up or down from the original functio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 vertical shif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 each y value up(+) or down(-) by the value of 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and connect the lin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4368960" y="1852560"/>
          <a:ext cx="275580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8960" y="1852560"/>
                    <a:ext cx="2755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 vertic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4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ine and Co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e this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orkshee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using the following sli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Graphing s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Graphing cos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1828800"/>
          <a:ext cx="3505320" cy="411480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Radia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in(     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1" name="Object 28"/>
              <p:cNvSpPr txBox="1"/>
              <p:nvPr/>
            </p:nvSpPr>
            <p:spPr>
              <a:xfrm>
                <a:off x="3581280" y="1828800"/>
                <a:ext cx="432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0"/>
              <p:cNvSpPr txBox="1"/>
              <p:nvPr/>
            </p:nvSpPr>
            <p:spPr>
              <a:xfrm>
                <a:off x="1676520" y="2590920"/>
                <a:ext cx="3823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31"/>
              <p:cNvSpPr txBox="1"/>
              <p:nvPr/>
            </p:nvSpPr>
            <p:spPr>
              <a:xfrm>
                <a:off x="1592280" y="3200400"/>
                <a:ext cx="620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32"/>
              <p:cNvSpPr txBox="1"/>
              <p:nvPr/>
            </p:nvSpPr>
            <p:spPr>
              <a:xfrm>
                <a:off x="1676520" y="4038480"/>
                <a:ext cx="480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3"/>
              <p:cNvSpPr txBox="1"/>
              <p:nvPr/>
            </p:nvSpPr>
            <p:spPr>
              <a:xfrm>
                <a:off x="1447920" y="4572000"/>
                <a:ext cx="8157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34"/>
              <p:cNvSpPr txBox="1"/>
              <p:nvPr/>
            </p:nvSpPr>
            <p:spPr>
              <a:xfrm>
                <a:off x="1523880" y="5334120"/>
                <a:ext cx="7686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AutoShape 35"/>
          <p:cNvSpPr/>
          <p:nvPr/>
        </p:nvSpPr>
        <p:spPr>
          <a:xfrm>
            <a:off x="2895480" y="25146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36"/>
          <p:cNvSpPr/>
          <p:nvPr/>
        </p:nvSpPr>
        <p:spPr>
          <a:xfrm>
            <a:off x="2895480" y="32004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37"/>
          <p:cNvSpPr/>
          <p:nvPr/>
        </p:nvSpPr>
        <p:spPr>
          <a:xfrm>
            <a:off x="2895480" y="38862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38"/>
          <p:cNvSpPr/>
          <p:nvPr/>
        </p:nvSpPr>
        <p:spPr>
          <a:xfrm>
            <a:off x="2895480" y="45720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39"/>
          <p:cNvSpPr/>
          <p:nvPr/>
        </p:nvSpPr>
        <p:spPr>
          <a:xfrm>
            <a:off x="2895480" y="52578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5181480" y="1828800"/>
            <a:ext cx="373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the sine function we need to plot points we already know from our unit circle. Find the x and y coordinates of the following values. The x values represent the radians and the y values represent the sine values. Click each ? button to see if your answer is corr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43">
            <a:hlinkClick r:id="" action="ppaction://hlinkshowjump?jump=nextslide"/>
          </p:cNvPr>
          <p:cNvSpPr/>
          <p:nvPr/>
        </p:nvSpPr>
        <p:spPr>
          <a:xfrm>
            <a:off x="8201160" y="6022800"/>
            <a:ext cx="739800" cy="624240"/>
          </a:xfrm>
          <a:custGeom>
            <a:avLst/>
            <a:gdLst>
              <a:gd name="textAreaLeft" fmla="*/ 40320 w 739800"/>
              <a:gd name="textAreaRight" fmla="*/ 699480 w 739800"/>
              <a:gd name="textAreaTop" fmla="*/ 40320 h 624240"/>
              <a:gd name="textAreaBottom" fmla="*/ 583920 h 624240"/>
            </a:gdLst>
            <a:ahLst/>
            <a:rect l="textAreaLeft" t="textAreaTop" r="textAreaRight" b="textAreaBottom"/>
            <a:pathLst>
              <a:path w="25596" h="21600">
                <a:moveTo>
                  <a:pt x="0" y="0"/>
                </a:moveTo>
                <a:lnTo>
                  <a:pt x="25596" y="0"/>
                </a:lnTo>
                <a:lnTo>
                  <a:pt x="25596" y="21600"/>
                </a:lnTo>
                <a:lnTo>
                  <a:pt x="0" y="21600"/>
                </a:lnTo>
                <a:close/>
              </a:path>
              <a:path fill="lightenLess" w="25596" h="21600">
                <a:moveTo>
                  <a:pt x="0" y="0"/>
                </a:moveTo>
                <a:lnTo>
                  <a:pt x="25596" y="0"/>
                </a:lnTo>
                <a:lnTo>
                  <a:pt x="24196" y="1400"/>
                </a:lnTo>
                <a:lnTo>
                  <a:pt x="1400" y="1400"/>
                </a:lnTo>
                <a:close/>
              </a:path>
              <a:path fill="darken" w="25596" h="21600">
                <a:moveTo>
                  <a:pt x="25596" y="0"/>
                </a:moveTo>
                <a:lnTo>
                  <a:pt x="25596" y="21600"/>
                </a:lnTo>
                <a:lnTo>
                  <a:pt x="24196" y="20200"/>
                </a:lnTo>
                <a:lnTo>
                  <a:pt x="24196" y="1400"/>
                </a:lnTo>
                <a:close/>
              </a:path>
              <a:path fill="darkenLess" w="25596" h="21600">
                <a:moveTo>
                  <a:pt x="25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6" y="20200"/>
                </a:lnTo>
                <a:close/>
              </a:path>
              <a:path fill="lighten" w="25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6" h="21600">
                <a:moveTo>
                  <a:pt x="5792" y="3794"/>
                </a:moveTo>
                <a:lnTo>
                  <a:pt x="19805" y="10800"/>
                </a:lnTo>
                <a:lnTo>
                  <a:pt x="579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ent Graph of 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105520" y="228600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need to plot the first point (0,0). Click to grap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081760" y="3703680"/>
            <a:ext cx="2495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we need to graph the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graph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graph"/>
          <p:cNvPicPr/>
          <p:nvPr/>
        </p:nvPicPr>
        <p:blipFill>
          <a:blip r:embed="rId1"/>
          <a:stretch/>
        </p:blipFill>
        <p:spPr>
          <a:xfrm>
            <a:off x="942840" y="1728720"/>
            <a:ext cx="3962520" cy="512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Object 7"/>
          <p:cNvGraphicFramePr/>
          <p:nvPr/>
        </p:nvGraphicFramePr>
        <p:xfrm>
          <a:off x="7005600" y="3957480"/>
          <a:ext cx="495360" cy="3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5600" y="3957480"/>
                    <a:ext cx="4953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AutoShape 8"/>
          <p:cNvSpPr/>
          <p:nvPr/>
        </p:nvSpPr>
        <p:spPr>
          <a:xfrm>
            <a:off x="3290760" y="3076560"/>
            <a:ext cx="15264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2862360" y="3909960"/>
            <a:ext cx="15228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5167440" y="510840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ot and connect the rest of your points to create the parent function for Sin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12">
            <a:hlinkClick r:id="" action="ppaction://hlinkshowjump?jump=nextslide"/>
          </p:cNvPr>
          <p:cNvSpPr/>
          <p:nvPr/>
        </p:nvSpPr>
        <p:spPr>
          <a:xfrm>
            <a:off x="7010280" y="304920"/>
            <a:ext cx="1828800" cy="121896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2403" h="21600">
                <a:moveTo>
                  <a:pt x="0" y="0"/>
                </a:moveTo>
                <a:lnTo>
                  <a:pt x="32403" y="0"/>
                </a:lnTo>
                <a:lnTo>
                  <a:pt x="32403" y="21600"/>
                </a:lnTo>
                <a:lnTo>
                  <a:pt x="0" y="21600"/>
                </a:lnTo>
                <a:close/>
              </a:path>
              <a:path fill="lightenLess" w="32403" h="21600">
                <a:moveTo>
                  <a:pt x="0" y="0"/>
                </a:moveTo>
                <a:lnTo>
                  <a:pt x="32403" y="0"/>
                </a:lnTo>
                <a:lnTo>
                  <a:pt x="31003" y="1400"/>
                </a:lnTo>
                <a:lnTo>
                  <a:pt x="1400" y="1400"/>
                </a:lnTo>
                <a:close/>
              </a:path>
              <a:path fill="darken" w="32403" h="21600">
                <a:moveTo>
                  <a:pt x="32403" y="0"/>
                </a:moveTo>
                <a:lnTo>
                  <a:pt x="32403" y="21600"/>
                </a:lnTo>
                <a:lnTo>
                  <a:pt x="31003" y="20200"/>
                </a:lnTo>
                <a:lnTo>
                  <a:pt x="31003" y="1400"/>
                </a:lnTo>
                <a:close/>
              </a:path>
              <a:path fill="darkenLess" w="32403" h="21600">
                <a:moveTo>
                  <a:pt x="324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3" y="20200"/>
                </a:lnTo>
                <a:close/>
              </a:path>
              <a:path fill="lighten" w="324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he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s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3">
            <a:hlinkClick r:id="" action="ppaction://hlinkshowjump?jump=firstslide"/>
          </p:cNvPr>
          <p:cNvSpPr/>
          <p:nvPr/>
        </p:nvSpPr>
        <p:spPr>
          <a:xfrm>
            <a:off x="0" y="59436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Co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752480"/>
          <a:ext cx="3505320" cy="419112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</a:tblGrid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Radia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Cos(     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Object 28"/>
              <p:cNvSpPr txBox="1"/>
              <p:nvPr/>
            </p:nvSpPr>
            <p:spPr>
              <a:xfrm>
                <a:off x="3581280" y="1752480"/>
                <a:ext cx="432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9"/>
              <p:cNvSpPr txBox="1"/>
              <p:nvPr/>
            </p:nvSpPr>
            <p:spPr>
              <a:xfrm>
                <a:off x="1676520" y="2590920"/>
                <a:ext cx="3823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0"/>
              <p:cNvSpPr txBox="1"/>
              <p:nvPr/>
            </p:nvSpPr>
            <p:spPr>
              <a:xfrm>
                <a:off x="1592280" y="3200400"/>
                <a:ext cx="620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1"/>
              <p:cNvSpPr txBox="1"/>
              <p:nvPr/>
            </p:nvSpPr>
            <p:spPr>
              <a:xfrm>
                <a:off x="1676520" y="4038480"/>
                <a:ext cx="480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32"/>
              <p:cNvSpPr txBox="1"/>
              <p:nvPr/>
            </p:nvSpPr>
            <p:spPr>
              <a:xfrm>
                <a:off x="1447920" y="4572000"/>
                <a:ext cx="8157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33"/>
              <p:cNvSpPr txBox="1"/>
              <p:nvPr/>
            </p:nvSpPr>
            <p:spPr>
              <a:xfrm>
                <a:off x="1523880" y="5334120"/>
                <a:ext cx="7686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Text Box 35"/>
          <p:cNvSpPr/>
          <p:nvPr/>
        </p:nvSpPr>
        <p:spPr>
          <a:xfrm>
            <a:off x="4800600" y="1828800"/>
            <a:ext cx="38098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the cosine function we need to plot points we already know from our unit circle. Find the x and y coordinates of the following values. The x values represent the radians and the y values represent the sine values. Click each ? button to see if your answer is corr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36"/>
          <p:cNvSpPr/>
          <p:nvPr/>
        </p:nvSpPr>
        <p:spPr>
          <a:xfrm>
            <a:off x="2666880" y="243828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37"/>
          <p:cNvSpPr/>
          <p:nvPr/>
        </p:nvSpPr>
        <p:spPr>
          <a:xfrm>
            <a:off x="2666880" y="31240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38"/>
          <p:cNvSpPr/>
          <p:nvPr/>
        </p:nvSpPr>
        <p:spPr>
          <a:xfrm>
            <a:off x="2666880" y="38098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39"/>
          <p:cNvSpPr/>
          <p:nvPr/>
        </p:nvSpPr>
        <p:spPr>
          <a:xfrm>
            <a:off x="2666880" y="45720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0"/>
          <p:cNvSpPr/>
          <p:nvPr/>
        </p:nvSpPr>
        <p:spPr>
          <a:xfrm>
            <a:off x="2666880" y="51814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43">
            <a:hlinkClick r:id="" action="ppaction://hlinkshowjump?jump=nextslide"/>
          </p:cNvPr>
          <p:cNvSpPr/>
          <p:nvPr/>
        </p:nvSpPr>
        <p:spPr>
          <a:xfrm>
            <a:off x="8215200" y="6168960"/>
            <a:ext cx="609840" cy="478080"/>
          </a:xfrm>
          <a:custGeom>
            <a:avLst/>
            <a:gdLst>
              <a:gd name="textAreaLeft" fmla="*/ 30960 w 609840"/>
              <a:gd name="textAreaRight" fmla="*/ 578880 w 609840"/>
              <a:gd name="textAreaTop" fmla="*/ 30960 h 478080"/>
              <a:gd name="textAreaBottom" fmla="*/ 447120 h 478080"/>
            </a:gdLst>
            <a:ahLst/>
            <a:rect l="textAreaLeft" t="textAreaTop" r="textAreaRight" b="textAreaBottom"/>
            <a:pathLst>
              <a:path w="27549" h="21600">
                <a:moveTo>
                  <a:pt x="0" y="0"/>
                </a:moveTo>
                <a:lnTo>
                  <a:pt x="27549" y="0"/>
                </a:lnTo>
                <a:lnTo>
                  <a:pt x="27549" y="21600"/>
                </a:lnTo>
                <a:lnTo>
                  <a:pt x="0" y="21600"/>
                </a:lnTo>
                <a:close/>
              </a:path>
              <a:path fill="lightenLess" w="27549" h="21600">
                <a:moveTo>
                  <a:pt x="0" y="0"/>
                </a:moveTo>
                <a:lnTo>
                  <a:pt x="27549" y="0"/>
                </a:lnTo>
                <a:lnTo>
                  <a:pt x="26149" y="1400"/>
                </a:lnTo>
                <a:lnTo>
                  <a:pt x="1400" y="1400"/>
                </a:lnTo>
                <a:close/>
              </a:path>
              <a:path fill="darken" w="27549" h="21600">
                <a:moveTo>
                  <a:pt x="27549" y="0"/>
                </a:moveTo>
                <a:lnTo>
                  <a:pt x="27549" y="21600"/>
                </a:lnTo>
                <a:lnTo>
                  <a:pt x="26149" y="20200"/>
                </a:lnTo>
                <a:lnTo>
                  <a:pt x="26149" y="1400"/>
                </a:lnTo>
                <a:close/>
              </a:path>
              <a:path fill="darkenLess" w="27549" h="21600">
                <a:moveTo>
                  <a:pt x="27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49" y="20200"/>
                </a:lnTo>
                <a:close/>
              </a:path>
              <a:path fill="lighten" w="27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49" h="21600">
                <a:moveTo>
                  <a:pt x="6768" y="3794"/>
                </a:moveTo>
                <a:lnTo>
                  <a:pt x="20781" y="10800"/>
                </a:lnTo>
                <a:lnTo>
                  <a:pt x="676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ent Graph of Co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105520" y="228600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need to plot the first point (0,1). Click to grap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081760" y="3703680"/>
            <a:ext cx="2495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we need to graph the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graph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graph"/>
          <p:cNvPicPr/>
          <p:nvPr/>
        </p:nvPicPr>
        <p:blipFill>
          <a:blip r:embed="rId1"/>
          <a:stretch/>
        </p:blipFill>
        <p:spPr>
          <a:xfrm>
            <a:off x="942840" y="1728720"/>
            <a:ext cx="3962520" cy="512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6"/>
          <p:cNvGraphicFramePr/>
          <p:nvPr/>
        </p:nvGraphicFramePr>
        <p:xfrm>
          <a:off x="6993000" y="3957480"/>
          <a:ext cx="520560" cy="3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93000" y="3957480"/>
                    <a:ext cx="5205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AutoShape 7"/>
          <p:cNvSpPr/>
          <p:nvPr/>
        </p:nvSpPr>
        <p:spPr>
          <a:xfrm>
            <a:off x="3290760" y="3905280"/>
            <a:ext cx="15264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2862360" y="3067200"/>
            <a:ext cx="15228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167440" y="510840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ot and connect the rest of your points to create the parent function for Cosin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10">
            <a:hlinkClick r:id="rId4" action="ppaction://hlinksldjump"/>
          </p:cNvPr>
          <p:cNvSpPr/>
          <p:nvPr/>
        </p:nvSpPr>
        <p:spPr>
          <a:xfrm>
            <a:off x="7010280" y="304920"/>
            <a:ext cx="1828800" cy="121896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2403" h="21600">
                <a:moveTo>
                  <a:pt x="0" y="0"/>
                </a:moveTo>
                <a:lnTo>
                  <a:pt x="32403" y="0"/>
                </a:lnTo>
                <a:lnTo>
                  <a:pt x="32403" y="21600"/>
                </a:lnTo>
                <a:lnTo>
                  <a:pt x="0" y="21600"/>
                </a:lnTo>
                <a:close/>
              </a:path>
              <a:path fill="lightenLess" w="32403" h="21600">
                <a:moveTo>
                  <a:pt x="0" y="0"/>
                </a:moveTo>
                <a:lnTo>
                  <a:pt x="32403" y="0"/>
                </a:lnTo>
                <a:lnTo>
                  <a:pt x="31003" y="1400"/>
                </a:lnTo>
                <a:lnTo>
                  <a:pt x="1400" y="1400"/>
                </a:lnTo>
                <a:close/>
              </a:path>
              <a:path fill="darken" w="32403" h="21600">
                <a:moveTo>
                  <a:pt x="32403" y="0"/>
                </a:moveTo>
                <a:lnTo>
                  <a:pt x="32403" y="21600"/>
                </a:lnTo>
                <a:lnTo>
                  <a:pt x="31003" y="20200"/>
                </a:lnTo>
                <a:lnTo>
                  <a:pt x="31003" y="1400"/>
                </a:lnTo>
                <a:close/>
              </a:path>
              <a:path fill="darkenLess" w="32403" h="21600">
                <a:moveTo>
                  <a:pt x="324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3" y="20200"/>
                </a:lnTo>
                <a:close/>
              </a:path>
              <a:path fill="lighten" w="324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he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11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mplitu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orkshee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general information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vide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mplitude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amplitud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mplitude is the distance from the midpoint to the highest or lowest point on the grap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n amplitude chang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ltiply each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ordinate by the amplitud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with the original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 and new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4343400" y="1849320"/>
          <a:ext cx="28083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49320"/>
                    <a:ext cx="2808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AutoShape 6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 change in amplitu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AutoShape 13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15" descr="am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240" y="2589120"/>
            <a:ext cx="4572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20:52:06Z</dcterms:created>
  <dc:creator>Mallary Kamen User</dc:creator>
  <dc:description/>
  <cp:keywords/>
  <dc:language>en-US</dc:language>
  <cp:lastModifiedBy>KamenMa</cp:lastModifiedBy>
  <cp:lastPrinted>1904-01-01T00:00:00Z</cp:lastPrinted>
  <dcterms:modified xsi:type="dcterms:W3CDTF">2010-10-26T18:35:23Z</dcterms:modified>
  <cp:revision>15</cp:revision>
  <dc:subject/>
  <dc:title>PowerPoint Presentation</dc:title>
</cp:coreProperties>
</file>