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B9FB-930F-4A48-87DD-E2A24A61465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4B37-0500-4AE1-95F5-F04D0A364AA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F2F0-11FA-4E54-9402-DBCB9C93B17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F890-D845-4B9D-9325-72D21CB1C4C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4F3-104F-485F-AC70-BA018BB8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273-A5B3-4531-897D-F29FF908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EEA6-4B23-4BE6-9D59-01D87BB8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D70E-6A20-4580-8CAA-1AA234F7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E270-4797-476F-B449-15B5A168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419B-2F43-4221-BA38-64BD05EB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2C69-6CFD-482E-8908-8728D06C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AE90-D3A6-463B-81D1-661C3058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F007-1AE0-4F3A-8B0F-522DDC8F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5207-77DD-4AFD-B35F-5F998A22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D154-D44A-4453-ABB9-D0669D91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366-8C03-4115-80FD-E94541FA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7601-E3D5-4EB5-A2B6-37386DE2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536F-66F2-4CD4-A046-DB55591F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438C-EB97-4ECD-851D-4614EDFC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0FC6-4375-4FDE-AD69-C6B31C1C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D53E-7FAF-4EBE-9AFF-3E846892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1B4-9721-480D-B306-FF71CD27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0DF-148B-432E-B6E0-5AC504D0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99D-E50D-4915-A7F7-D437B421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337-8919-4AA8-BE2F-D23F1973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CD4-F81B-4D52-8074-CE50BCE3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C54-71B6-43BD-A157-104A7770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81E6-F39F-477C-8EA6-BD8D19A4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A971-F3DE-475F-982F-A92321F5C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9479-BD03-4F28-ABE3-E2EB27F18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image" Target="../media/image2.png"/><Relationship Id="rId5" Type="http://schemas.openxmlformats.org/officeDocument/2006/relationships/slide" Target="slide10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Worksheets" TargetMode="Externa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Worksheets" TargetMode="External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Worksheets" TargetMode="Externa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raphingtrigvideos.wikispaces.com/Amplitude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0" y="3581280"/>
            <a:ext cx="9144000" cy="2438640"/>
          </a:xfrm>
          <a:prstGeom prst="rect">
            <a:avLst/>
          </a:prstGeom>
          <a:solidFill>
            <a:srgbClr val="000000">
              <a:alpha val="73000"/>
            </a:srgbClr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2209680" y="838080"/>
            <a:ext cx="5104080" cy="118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Graphing Trig Function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Picture 7" descr="300px-Sine_cosine_plot">
            <a:hlinkClick r:id="rId1" action="ppaction://hlinksldjump"/>
          </p:cNvPr>
          <p:cNvPicPr/>
          <p:nvPr/>
        </p:nvPicPr>
        <p:blipFill>
          <a:blip r:embed="rId2"/>
          <a:srcRect l="-983" t="-1909" r="0" b="0"/>
          <a:stretch/>
        </p:blipFill>
        <p:spPr>
          <a:xfrm>
            <a:off x="304920" y="4267080"/>
            <a:ext cx="1981080" cy="1333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amplitud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876400" y="4270320"/>
            <a:ext cx="1676520" cy="143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pendulum-cosin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06880" y="4286160"/>
            <a:ext cx="1752840" cy="1336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s0423400-sine-curve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192800" y="4282920"/>
            <a:ext cx="1524240" cy="1471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4"/>
          <p:cNvSpPr/>
          <p:nvPr/>
        </p:nvSpPr>
        <p:spPr>
          <a:xfrm>
            <a:off x="304920" y="373392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Graphing Sine and Cosin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2819520" y="3733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Amplitud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7056360" y="367524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Horizontal &amp; Vertical Shif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114880" y="37368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Trebuchet MS"/>
              </a:rPr>
              <a:t>Period Lengt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riod Lengt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orkshee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general information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video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riod length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period length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iod length is the distance between any two repeating points on the graph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 period length chang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ltiply each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ordinate by the reciprocal of the b valu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with the original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 and new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343400" y="1852560"/>
          <a:ext cx="280836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52560"/>
                    <a:ext cx="28083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5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Graphing a change in period length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5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orizont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workshee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general information 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video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orizontal shift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horizontal shif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rizontal shift is the distance moved left or right from the original functio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 horizontal shif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e each x value left (add) or right (subtract) by the value of c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and connect the lin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4343400" y="1852560"/>
          <a:ext cx="280836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52560"/>
                    <a:ext cx="28083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AutoShape 5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a horizont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AutoShape 4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rtic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workshee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general information 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video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ertical shift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vertical shift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tical shift is the distance moved up or down from the original functio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 vertical shif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e each y value up(+) or down(-) by the value of 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and connect the line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4368960" y="1852560"/>
          <a:ext cx="275580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8960" y="1852560"/>
                    <a:ext cx="2755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a vertical shif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4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Sine and Co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e this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orkshee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y using the following slid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Graphing s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Graphing cos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1828800"/>
          <a:ext cx="3505320" cy="411480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Radia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Sin(     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1" name="Object 28"/>
              <p:cNvSpPr txBox="1"/>
              <p:nvPr/>
            </p:nvSpPr>
            <p:spPr>
              <a:xfrm>
                <a:off x="3581280" y="1828800"/>
                <a:ext cx="432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30"/>
              <p:cNvSpPr txBox="1"/>
              <p:nvPr/>
            </p:nvSpPr>
            <p:spPr>
              <a:xfrm>
                <a:off x="1676520" y="2590920"/>
                <a:ext cx="3823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31"/>
              <p:cNvSpPr txBox="1"/>
              <p:nvPr/>
            </p:nvSpPr>
            <p:spPr>
              <a:xfrm>
                <a:off x="1592280" y="3200400"/>
                <a:ext cx="620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32"/>
              <p:cNvSpPr txBox="1"/>
              <p:nvPr/>
            </p:nvSpPr>
            <p:spPr>
              <a:xfrm>
                <a:off x="1676520" y="4038480"/>
                <a:ext cx="4809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33"/>
              <p:cNvSpPr txBox="1"/>
              <p:nvPr/>
            </p:nvSpPr>
            <p:spPr>
              <a:xfrm>
                <a:off x="1447920" y="4572000"/>
                <a:ext cx="8157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34"/>
              <p:cNvSpPr txBox="1"/>
              <p:nvPr/>
            </p:nvSpPr>
            <p:spPr>
              <a:xfrm>
                <a:off x="1523880" y="5334120"/>
                <a:ext cx="7686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AutoShape 35"/>
          <p:cNvSpPr/>
          <p:nvPr/>
        </p:nvSpPr>
        <p:spPr>
          <a:xfrm>
            <a:off x="2895480" y="25146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36"/>
          <p:cNvSpPr/>
          <p:nvPr/>
        </p:nvSpPr>
        <p:spPr>
          <a:xfrm>
            <a:off x="2895480" y="32004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37"/>
          <p:cNvSpPr/>
          <p:nvPr/>
        </p:nvSpPr>
        <p:spPr>
          <a:xfrm>
            <a:off x="2895480" y="38862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38"/>
          <p:cNvSpPr/>
          <p:nvPr/>
        </p:nvSpPr>
        <p:spPr>
          <a:xfrm>
            <a:off x="2895480" y="45720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39"/>
          <p:cNvSpPr/>
          <p:nvPr/>
        </p:nvSpPr>
        <p:spPr>
          <a:xfrm>
            <a:off x="2895480" y="52578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5181480" y="1828800"/>
            <a:ext cx="373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the sine function we need to plot points we already know from our unit circle. Find the x and y coordinates of the following values. The x values represent the radians and the y values represent the sine values. Click each ? button to see if your answer is corre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AutoShape 43">
            <a:hlinkClick r:id="" action="ppaction://hlinkshowjump?jump=nextslide"/>
          </p:cNvPr>
          <p:cNvSpPr/>
          <p:nvPr/>
        </p:nvSpPr>
        <p:spPr>
          <a:xfrm>
            <a:off x="8201160" y="6022800"/>
            <a:ext cx="739800" cy="624240"/>
          </a:xfrm>
          <a:custGeom>
            <a:avLst/>
            <a:gdLst>
              <a:gd name="textAreaLeft" fmla="*/ 40320 w 739800"/>
              <a:gd name="textAreaRight" fmla="*/ 699480 w 739800"/>
              <a:gd name="textAreaTop" fmla="*/ 40320 h 624240"/>
              <a:gd name="textAreaBottom" fmla="*/ 583920 h 624240"/>
            </a:gdLst>
            <a:ahLst/>
            <a:rect l="textAreaLeft" t="textAreaTop" r="textAreaRight" b="textAreaBottom"/>
            <a:pathLst>
              <a:path w="25596" h="21600">
                <a:moveTo>
                  <a:pt x="0" y="0"/>
                </a:moveTo>
                <a:lnTo>
                  <a:pt x="25596" y="0"/>
                </a:lnTo>
                <a:lnTo>
                  <a:pt x="25596" y="21600"/>
                </a:lnTo>
                <a:lnTo>
                  <a:pt x="0" y="21600"/>
                </a:lnTo>
                <a:close/>
              </a:path>
              <a:path fill="lightenLess" w="25596" h="21600">
                <a:moveTo>
                  <a:pt x="0" y="0"/>
                </a:moveTo>
                <a:lnTo>
                  <a:pt x="25596" y="0"/>
                </a:lnTo>
                <a:lnTo>
                  <a:pt x="24196" y="1400"/>
                </a:lnTo>
                <a:lnTo>
                  <a:pt x="1400" y="1400"/>
                </a:lnTo>
                <a:close/>
              </a:path>
              <a:path fill="darken" w="25596" h="21600">
                <a:moveTo>
                  <a:pt x="25596" y="0"/>
                </a:moveTo>
                <a:lnTo>
                  <a:pt x="25596" y="21600"/>
                </a:lnTo>
                <a:lnTo>
                  <a:pt x="24196" y="20200"/>
                </a:lnTo>
                <a:lnTo>
                  <a:pt x="24196" y="1400"/>
                </a:lnTo>
                <a:close/>
              </a:path>
              <a:path fill="darkenLess" w="25596" h="21600">
                <a:moveTo>
                  <a:pt x="25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6" y="20200"/>
                </a:lnTo>
                <a:close/>
              </a:path>
              <a:path fill="lighten" w="25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6" h="21600">
                <a:moveTo>
                  <a:pt x="5792" y="3794"/>
                </a:moveTo>
                <a:lnTo>
                  <a:pt x="19805" y="10800"/>
                </a:lnTo>
                <a:lnTo>
                  <a:pt x="579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ent Graph of 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105520" y="228600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need to plot the first point (0,0). Click to graph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081760" y="3703680"/>
            <a:ext cx="2495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we need to graph the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graph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10" descr="graph"/>
          <p:cNvPicPr/>
          <p:nvPr/>
        </p:nvPicPr>
        <p:blipFill>
          <a:blip r:embed="rId1"/>
          <a:stretch/>
        </p:blipFill>
        <p:spPr>
          <a:xfrm>
            <a:off x="942840" y="1728720"/>
            <a:ext cx="3962520" cy="512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Object 7"/>
          <p:cNvGraphicFramePr/>
          <p:nvPr/>
        </p:nvGraphicFramePr>
        <p:xfrm>
          <a:off x="7005600" y="3957480"/>
          <a:ext cx="495360" cy="3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5600" y="3957480"/>
                    <a:ext cx="4953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AutoShape 8"/>
          <p:cNvSpPr/>
          <p:nvPr/>
        </p:nvSpPr>
        <p:spPr>
          <a:xfrm>
            <a:off x="3290760" y="3076560"/>
            <a:ext cx="15264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2862360" y="3909960"/>
            <a:ext cx="15228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5167440" y="510840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ot and connect the rest of your points to create the parent function for Sin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12">
            <a:hlinkClick r:id="" action="ppaction://hlinkshowjump?jump=nextslide"/>
          </p:cNvPr>
          <p:cNvSpPr/>
          <p:nvPr/>
        </p:nvSpPr>
        <p:spPr>
          <a:xfrm>
            <a:off x="7010280" y="304920"/>
            <a:ext cx="1828800" cy="121896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2403" h="21600">
                <a:moveTo>
                  <a:pt x="0" y="0"/>
                </a:moveTo>
                <a:lnTo>
                  <a:pt x="32403" y="0"/>
                </a:lnTo>
                <a:lnTo>
                  <a:pt x="32403" y="21600"/>
                </a:lnTo>
                <a:lnTo>
                  <a:pt x="0" y="21600"/>
                </a:lnTo>
                <a:close/>
              </a:path>
              <a:path fill="lightenLess" w="32403" h="21600">
                <a:moveTo>
                  <a:pt x="0" y="0"/>
                </a:moveTo>
                <a:lnTo>
                  <a:pt x="32403" y="0"/>
                </a:lnTo>
                <a:lnTo>
                  <a:pt x="31003" y="1400"/>
                </a:lnTo>
                <a:lnTo>
                  <a:pt x="1400" y="1400"/>
                </a:lnTo>
                <a:close/>
              </a:path>
              <a:path fill="darken" w="32403" h="21600">
                <a:moveTo>
                  <a:pt x="32403" y="0"/>
                </a:moveTo>
                <a:lnTo>
                  <a:pt x="32403" y="21600"/>
                </a:lnTo>
                <a:lnTo>
                  <a:pt x="31003" y="20200"/>
                </a:lnTo>
                <a:lnTo>
                  <a:pt x="31003" y="1400"/>
                </a:lnTo>
                <a:close/>
              </a:path>
              <a:path fill="darkenLess" w="32403" h="21600">
                <a:moveTo>
                  <a:pt x="324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3" y="20200"/>
                </a:lnTo>
                <a:close/>
              </a:path>
              <a:path fill="lighten" w="324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he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s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13">
            <a:hlinkClick r:id="" action="ppaction://hlinkshowjump?jump=firstslide"/>
          </p:cNvPr>
          <p:cNvSpPr/>
          <p:nvPr/>
        </p:nvSpPr>
        <p:spPr>
          <a:xfrm>
            <a:off x="0" y="59436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Co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1752480"/>
          <a:ext cx="3505320" cy="419112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</a:tblGrid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Radia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f5f5f"/>
                          </a:solidFill>
                          <a:latin typeface="Verdana"/>
                        </a:rPr>
                        <a:t>Cos(     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7" name="Object 28"/>
              <p:cNvSpPr txBox="1"/>
              <p:nvPr/>
            </p:nvSpPr>
            <p:spPr>
              <a:xfrm>
                <a:off x="3581280" y="1752480"/>
                <a:ext cx="432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9"/>
              <p:cNvSpPr txBox="1"/>
              <p:nvPr/>
            </p:nvSpPr>
            <p:spPr>
              <a:xfrm>
                <a:off x="1676520" y="2590920"/>
                <a:ext cx="3823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0"/>
              <p:cNvSpPr txBox="1"/>
              <p:nvPr/>
            </p:nvSpPr>
            <p:spPr>
              <a:xfrm>
                <a:off x="1592280" y="3200400"/>
                <a:ext cx="620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1"/>
              <p:cNvSpPr txBox="1"/>
              <p:nvPr/>
            </p:nvSpPr>
            <p:spPr>
              <a:xfrm>
                <a:off x="1676520" y="4038480"/>
                <a:ext cx="4809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32"/>
              <p:cNvSpPr txBox="1"/>
              <p:nvPr/>
            </p:nvSpPr>
            <p:spPr>
              <a:xfrm>
                <a:off x="1447920" y="4572000"/>
                <a:ext cx="8157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p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33"/>
              <p:cNvSpPr txBox="1"/>
              <p:nvPr/>
            </p:nvSpPr>
            <p:spPr>
              <a:xfrm>
                <a:off x="1523880" y="5334120"/>
                <a:ext cx="7686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Text Box 35"/>
          <p:cNvSpPr/>
          <p:nvPr/>
        </p:nvSpPr>
        <p:spPr>
          <a:xfrm>
            <a:off x="4800600" y="1828800"/>
            <a:ext cx="38098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the cosine function we need to plot points we already know from our unit circle. Find the x and y coordinates of the following values. The x values represent the radians and the y values represent the sine values. Click each ? button to see if your answer is corre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36"/>
          <p:cNvSpPr/>
          <p:nvPr/>
        </p:nvSpPr>
        <p:spPr>
          <a:xfrm>
            <a:off x="2666880" y="243828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37"/>
          <p:cNvSpPr/>
          <p:nvPr/>
        </p:nvSpPr>
        <p:spPr>
          <a:xfrm>
            <a:off x="2666880" y="31240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38"/>
          <p:cNvSpPr/>
          <p:nvPr/>
        </p:nvSpPr>
        <p:spPr>
          <a:xfrm>
            <a:off x="2666880" y="38098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39"/>
          <p:cNvSpPr/>
          <p:nvPr/>
        </p:nvSpPr>
        <p:spPr>
          <a:xfrm>
            <a:off x="2666880" y="45720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40"/>
          <p:cNvSpPr/>
          <p:nvPr/>
        </p:nvSpPr>
        <p:spPr>
          <a:xfrm>
            <a:off x="2666880" y="5181480"/>
            <a:ext cx="1752840" cy="762120"/>
          </a:xfrm>
          <a:custGeom>
            <a:avLst/>
            <a:gdLst>
              <a:gd name="textAreaLeft" fmla="*/ 49320 w 1752840"/>
              <a:gd name="textAreaRight" fmla="*/ 1703520 w 1752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9666" h="21600">
                <a:moveTo>
                  <a:pt x="0" y="0"/>
                </a:moveTo>
                <a:lnTo>
                  <a:pt x="49666" y="0"/>
                </a:lnTo>
                <a:lnTo>
                  <a:pt x="49666" y="21600"/>
                </a:lnTo>
                <a:lnTo>
                  <a:pt x="0" y="21600"/>
                </a:lnTo>
                <a:close/>
              </a:path>
              <a:path fill="lightenLess" w="49666" h="21600">
                <a:moveTo>
                  <a:pt x="0" y="0"/>
                </a:moveTo>
                <a:lnTo>
                  <a:pt x="49666" y="0"/>
                </a:lnTo>
                <a:lnTo>
                  <a:pt x="48266" y="1400"/>
                </a:lnTo>
                <a:lnTo>
                  <a:pt x="1400" y="1400"/>
                </a:lnTo>
                <a:close/>
              </a:path>
              <a:path fill="darken" w="49666" h="21600">
                <a:moveTo>
                  <a:pt x="49666" y="0"/>
                </a:moveTo>
                <a:lnTo>
                  <a:pt x="49666" y="21600"/>
                </a:lnTo>
                <a:lnTo>
                  <a:pt x="48266" y="20200"/>
                </a:lnTo>
                <a:lnTo>
                  <a:pt x="48266" y="1400"/>
                </a:lnTo>
                <a:close/>
              </a:path>
              <a:path fill="darkenLess" w="49666" h="21600">
                <a:moveTo>
                  <a:pt x="49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66" y="20200"/>
                </a:lnTo>
                <a:close/>
              </a:path>
              <a:path fill="lighten" w="49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43">
            <a:hlinkClick r:id="" action="ppaction://hlinkshowjump?jump=nextslide"/>
          </p:cNvPr>
          <p:cNvSpPr/>
          <p:nvPr/>
        </p:nvSpPr>
        <p:spPr>
          <a:xfrm>
            <a:off x="8215200" y="6168960"/>
            <a:ext cx="609840" cy="478080"/>
          </a:xfrm>
          <a:custGeom>
            <a:avLst/>
            <a:gdLst>
              <a:gd name="textAreaLeft" fmla="*/ 30960 w 609840"/>
              <a:gd name="textAreaRight" fmla="*/ 578880 w 609840"/>
              <a:gd name="textAreaTop" fmla="*/ 30960 h 478080"/>
              <a:gd name="textAreaBottom" fmla="*/ 447120 h 478080"/>
            </a:gdLst>
            <a:ahLst/>
            <a:rect l="textAreaLeft" t="textAreaTop" r="textAreaRight" b="textAreaBottom"/>
            <a:pathLst>
              <a:path w="27549" h="21600">
                <a:moveTo>
                  <a:pt x="0" y="0"/>
                </a:moveTo>
                <a:lnTo>
                  <a:pt x="27549" y="0"/>
                </a:lnTo>
                <a:lnTo>
                  <a:pt x="27549" y="21600"/>
                </a:lnTo>
                <a:lnTo>
                  <a:pt x="0" y="21600"/>
                </a:lnTo>
                <a:close/>
              </a:path>
              <a:path fill="lightenLess" w="27549" h="21600">
                <a:moveTo>
                  <a:pt x="0" y="0"/>
                </a:moveTo>
                <a:lnTo>
                  <a:pt x="27549" y="0"/>
                </a:lnTo>
                <a:lnTo>
                  <a:pt x="26149" y="1400"/>
                </a:lnTo>
                <a:lnTo>
                  <a:pt x="1400" y="1400"/>
                </a:lnTo>
                <a:close/>
              </a:path>
              <a:path fill="darken" w="27549" h="21600">
                <a:moveTo>
                  <a:pt x="27549" y="0"/>
                </a:moveTo>
                <a:lnTo>
                  <a:pt x="27549" y="21600"/>
                </a:lnTo>
                <a:lnTo>
                  <a:pt x="26149" y="20200"/>
                </a:lnTo>
                <a:lnTo>
                  <a:pt x="26149" y="1400"/>
                </a:lnTo>
                <a:close/>
              </a:path>
              <a:path fill="darkenLess" w="27549" h="21600">
                <a:moveTo>
                  <a:pt x="27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49" y="20200"/>
                </a:lnTo>
                <a:close/>
              </a:path>
              <a:path fill="lighten" w="27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49" h="21600">
                <a:moveTo>
                  <a:pt x="6768" y="3794"/>
                </a:moveTo>
                <a:lnTo>
                  <a:pt x="20781" y="10800"/>
                </a:lnTo>
                <a:lnTo>
                  <a:pt x="676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ent Graph of Cos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105520" y="228600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need to plot the first point (0,1). Click to graph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081760" y="3703680"/>
            <a:ext cx="2495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we need to graph the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graph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graph"/>
          <p:cNvPicPr/>
          <p:nvPr/>
        </p:nvPicPr>
        <p:blipFill>
          <a:blip r:embed="rId1"/>
          <a:stretch/>
        </p:blipFill>
        <p:spPr>
          <a:xfrm>
            <a:off x="942840" y="1728720"/>
            <a:ext cx="3962520" cy="512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Object 6"/>
          <p:cNvGraphicFramePr/>
          <p:nvPr/>
        </p:nvGraphicFramePr>
        <p:xfrm>
          <a:off x="6993000" y="3957480"/>
          <a:ext cx="520560" cy="33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93000" y="3957480"/>
                    <a:ext cx="5205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AutoShape 7"/>
          <p:cNvSpPr/>
          <p:nvPr/>
        </p:nvSpPr>
        <p:spPr>
          <a:xfrm>
            <a:off x="3290760" y="3905280"/>
            <a:ext cx="15264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2862360" y="3067200"/>
            <a:ext cx="152280" cy="152280"/>
          </a:xfrm>
          <a:prstGeom prst="flowChartConnector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167440" y="510840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ot and connect the rest of your points to create the parent function for Cosin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10">
            <a:hlinkClick r:id="rId4" action="ppaction://hlinksldjump"/>
          </p:cNvPr>
          <p:cNvSpPr/>
          <p:nvPr/>
        </p:nvSpPr>
        <p:spPr>
          <a:xfrm>
            <a:off x="7010280" y="304920"/>
            <a:ext cx="1828800" cy="1218960"/>
          </a:xfrm>
          <a:custGeom>
            <a:avLst/>
            <a:gdLst>
              <a:gd name="textAreaLeft" fmla="*/ 78840 w 1828800"/>
              <a:gd name="textAreaRight" fmla="*/ 1749960 w 18288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2403" h="21600">
                <a:moveTo>
                  <a:pt x="0" y="0"/>
                </a:moveTo>
                <a:lnTo>
                  <a:pt x="32403" y="0"/>
                </a:lnTo>
                <a:lnTo>
                  <a:pt x="32403" y="21600"/>
                </a:lnTo>
                <a:lnTo>
                  <a:pt x="0" y="21600"/>
                </a:lnTo>
                <a:close/>
              </a:path>
              <a:path fill="lightenLess" w="32403" h="21600">
                <a:moveTo>
                  <a:pt x="0" y="0"/>
                </a:moveTo>
                <a:lnTo>
                  <a:pt x="32403" y="0"/>
                </a:lnTo>
                <a:lnTo>
                  <a:pt x="31003" y="1400"/>
                </a:lnTo>
                <a:lnTo>
                  <a:pt x="1400" y="1400"/>
                </a:lnTo>
                <a:close/>
              </a:path>
              <a:path fill="darken" w="32403" h="21600">
                <a:moveTo>
                  <a:pt x="32403" y="0"/>
                </a:moveTo>
                <a:lnTo>
                  <a:pt x="32403" y="21600"/>
                </a:lnTo>
                <a:lnTo>
                  <a:pt x="31003" y="20200"/>
                </a:lnTo>
                <a:lnTo>
                  <a:pt x="31003" y="1400"/>
                </a:lnTo>
                <a:close/>
              </a:path>
              <a:path fill="darkenLess" w="32403" h="21600">
                <a:moveTo>
                  <a:pt x="324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3" y="20200"/>
                </a:lnTo>
                <a:close/>
              </a:path>
              <a:path fill="lighten" w="324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he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grap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11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mplitu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ction complete this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orkshee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st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 action="ppaction://hlinksldjump"/>
              </a:rPr>
              <a:t>general information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help you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xt, use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3" action="ppaction://hlinksldjump"/>
              </a:rPr>
              <a:t>video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o help you understand how to grap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mplitude general inform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standard form                                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represents the amplitud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mplitude is the distance from the midpoint to the highest or lowest point on the graph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eps to graph an amplitude chang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raph the parent functio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ultiply each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ordinate by the amplitud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ot each new point with the original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 and new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valu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4343400" y="1849320"/>
          <a:ext cx="28083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49320"/>
                    <a:ext cx="28083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AutoShape 6">
            <a:hlinkClick r:id="" action="ppaction://hlinkshowjump?jump=nextslide"/>
          </p:cNvPr>
          <p:cNvSpPr/>
          <p:nvPr/>
        </p:nvSpPr>
        <p:spPr>
          <a:xfrm>
            <a:off x="8186760" y="6081840"/>
            <a:ext cx="638280" cy="493560"/>
          </a:xfrm>
          <a:custGeom>
            <a:avLst/>
            <a:gdLst>
              <a:gd name="textAreaLeft" fmla="*/ 31680 w 638280"/>
              <a:gd name="textAreaRight" fmla="*/ 606600 w 638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7929" h="21600">
                <a:moveTo>
                  <a:pt x="0" y="0"/>
                </a:moveTo>
                <a:lnTo>
                  <a:pt x="27929" y="0"/>
                </a:lnTo>
                <a:lnTo>
                  <a:pt x="27929" y="21600"/>
                </a:lnTo>
                <a:lnTo>
                  <a:pt x="0" y="21600"/>
                </a:lnTo>
                <a:close/>
              </a:path>
              <a:path fill="lightenLess" w="27929" h="21600">
                <a:moveTo>
                  <a:pt x="0" y="0"/>
                </a:moveTo>
                <a:lnTo>
                  <a:pt x="27929" y="0"/>
                </a:lnTo>
                <a:lnTo>
                  <a:pt x="26529" y="1400"/>
                </a:lnTo>
                <a:lnTo>
                  <a:pt x="1400" y="1400"/>
                </a:lnTo>
                <a:close/>
              </a:path>
              <a:path fill="darken" w="27929" h="21600">
                <a:moveTo>
                  <a:pt x="27929" y="0"/>
                </a:moveTo>
                <a:lnTo>
                  <a:pt x="27929" y="21600"/>
                </a:lnTo>
                <a:lnTo>
                  <a:pt x="26529" y="20200"/>
                </a:lnTo>
                <a:lnTo>
                  <a:pt x="26529" y="1400"/>
                </a:lnTo>
                <a:close/>
              </a:path>
              <a:path fill="darkenLess" w="27929" h="21600">
                <a:moveTo>
                  <a:pt x="27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9" y="20200"/>
                </a:lnTo>
                <a:close/>
              </a:path>
              <a:path fill="lighten" w="27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9" h="21600">
                <a:moveTo>
                  <a:pt x="6958" y="3794"/>
                </a:moveTo>
                <a:lnTo>
                  <a:pt x="20971" y="10800"/>
                </a:lnTo>
                <a:lnTo>
                  <a:pt x="69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phing a change in amplitu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1959120" y="16984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atch and take notes on this video. Then try the two practice problems on your workshee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AutoShape 13">
            <a:hlinkClick r:id="" action="ppaction://hlinkshowjump?jump=firstslide"/>
          </p:cNvPr>
          <p:cNvSpPr/>
          <p:nvPr/>
        </p:nvSpPr>
        <p:spPr>
          <a:xfrm>
            <a:off x="0" y="594036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15" descr="am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240" y="2589120"/>
            <a:ext cx="4572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20:52:06Z</dcterms:created>
  <dc:creator>Mallary Kamen User</dc:creator>
  <dc:description/>
  <cp:keywords/>
  <dc:language>en-US</dc:language>
  <cp:lastModifiedBy>KamenMa</cp:lastModifiedBy>
  <cp:lastPrinted>1904-01-01T00:00:00Z</cp:lastPrinted>
  <dcterms:modified xsi:type="dcterms:W3CDTF">2010-10-26T18:35:23Z</dcterms:modified>
  <cp:revision>15</cp:revision>
  <dc:subject/>
  <dc:title>PowerPoint Presentation</dc:title>
</cp:coreProperties>
</file>